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 id="326" r:id="rId229"/>
    <p:sldId id="327" r:id="rId230"/>
    <p:sldId id="328" r:id="rId231"/>
    <p:sldId id="329" r:id="rId232"/>
    <p:sldId id="330" r:id="rId233"/>
    <p:sldId id="331" r:id="rId23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slide" Target="slides/slide71.xml"/><Relationship Id="rId230" Type="http://schemas.openxmlformats.org/officeDocument/2006/relationships/slide" Target="slides/slide72.xml"/><Relationship Id="rId231" Type="http://schemas.openxmlformats.org/officeDocument/2006/relationships/slide" Target="slides/slide73.xml"/><Relationship Id="rId232" Type="http://schemas.openxmlformats.org/officeDocument/2006/relationships/slide" Target="slides/slide74.xml"/><Relationship Id="rId233" Type="http://schemas.openxmlformats.org/officeDocument/2006/relationships/slide" Target="slides/slide75.xml"/><Relationship Id="rId234" Type="http://schemas.openxmlformats.org/officeDocument/2006/relationships/slide" Target="slides/slide76.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F129D-A034-4DBC-A302-9221E5826718}"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24B3C-F1AB-4496-80F3-7F10D435E5F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4" name="PlaceHolder 1"/>
          <p:cNvSpPr>
            <a:spLocks noGrp="1"/>
          </p:cNvSpPr>
          <p:nvPr>
            <p:ph type="sldImg"/>
          </p:nvPr>
        </p:nvSpPr>
        <p:spPr>
          <a:xfrm>
            <a:off x="985680" y="733320"/>
            <a:ext cx="4886640" cy="3665520"/>
          </a:xfrm>
          <a:prstGeom prst="rect">
            <a:avLst/>
          </a:prstGeom>
          <a:ln w="0">
            <a:noFill/>
          </a:ln>
        </p:spPr>
      </p:sp>
      <p:sp>
        <p:nvSpPr>
          <p:cNvPr id="707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A32F3-6485-4763-A274-1EC1E4CA9FA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A68EA7-DA8A-4E3E-9E16-70A6A36BEAD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0" name="PlaceHolder 1"/>
          <p:cNvSpPr>
            <a:spLocks noGrp="1"/>
          </p:cNvSpPr>
          <p:nvPr>
            <p:ph type="sldImg"/>
          </p:nvPr>
        </p:nvSpPr>
        <p:spPr>
          <a:xfrm>
            <a:off x="985680" y="741240"/>
            <a:ext cx="4886640" cy="3665520"/>
          </a:xfrm>
          <a:prstGeom prst="rect">
            <a:avLst/>
          </a:prstGeom>
          <a:ln w="0">
            <a:noFill/>
          </a:ln>
        </p:spPr>
      </p:sp>
      <p:sp>
        <p:nvSpPr>
          <p:cNvPr id="71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A8B89E-FB4E-4566-9497-13914D5BDE5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53CC04-FFB4-4173-B1B3-BBC3523349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4" name="PlaceHolder 1"/>
          <p:cNvSpPr>
            <a:spLocks noGrp="1"/>
          </p:cNvSpPr>
          <p:nvPr>
            <p:ph type="sldImg"/>
          </p:nvPr>
        </p:nvSpPr>
        <p:spPr>
          <a:xfrm>
            <a:off x="985680" y="741240"/>
            <a:ext cx="4886640" cy="3665520"/>
          </a:xfrm>
          <a:prstGeom prst="rect">
            <a:avLst/>
          </a:prstGeom>
          <a:ln w="0">
            <a:noFill/>
          </a:ln>
        </p:spPr>
      </p:sp>
      <p:sp>
        <p:nvSpPr>
          <p:cNvPr id="7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30405-35A2-4ED3-AD5B-4D3E236187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8044C-A31E-45F7-9AD1-0BBACC3703D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8" name="PlaceHolder 1"/>
          <p:cNvSpPr>
            <a:spLocks noGrp="1"/>
          </p:cNvSpPr>
          <p:nvPr>
            <p:ph type="sldImg"/>
          </p:nvPr>
        </p:nvSpPr>
        <p:spPr>
          <a:xfrm>
            <a:off x="985680" y="741240"/>
            <a:ext cx="4886640" cy="3665520"/>
          </a:xfrm>
          <a:prstGeom prst="rect">
            <a:avLst/>
          </a:prstGeom>
          <a:ln w="0">
            <a:noFill/>
          </a:ln>
        </p:spPr>
      </p:sp>
      <p:sp>
        <p:nvSpPr>
          <p:cNvPr id="71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9524DC-C792-4667-AF46-BA7349AED87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5D7E77-03DE-43C0-86A3-18E3A0CF26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2" name="PlaceHolder 1"/>
          <p:cNvSpPr>
            <a:spLocks noGrp="1"/>
          </p:cNvSpPr>
          <p:nvPr>
            <p:ph type="sldImg"/>
          </p:nvPr>
        </p:nvSpPr>
        <p:spPr>
          <a:xfrm>
            <a:off x="985680" y="741240"/>
            <a:ext cx="4886640" cy="3665520"/>
          </a:xfrm>
          <a:prstGeom prst="rect">
            <a:avLst/>
          </a:prstGeom>
          <a:ln w="0">
            <a:noFill/>
          </a:ln>
        </p:spPr>
      </p:sp>
      <p:sp>
        <p:nvSpPr>
          <p:cNvPr id="71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8278E-6920-4D84-8C61-5D4EFBD0754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A7C6A-1344-4270-81F3-AAFDC03FABD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6" name="PlaceHolder 1"/>
          <p:cNvSpPr>
            <a:spLocks noGrp="1"/>
          </p:cNvSpPr>
          <p:nvPr>
            <p:ph type="sldImg"/>
          </p:nvPr>
        </p:nvSpPr>
        <p:spPr>
          <a:xfrm>
            <a:off x="985680" y="741240"/>
            <a:ext cx="4886640" cy="3665520"/>
          </a:xfrm>
          <a:prstGeom prst="rect">
            <a:avLst/>
          </a:prstGeom>
          <a:ln w="0">
            <a:noFill/>
          </a:ln>
        </p:spPr>
      </p:sp>
      <p:sp>
        <p:nvSpPr>
          <p:cNvPr id="7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D72B0E-076F-43EE-9673-CC23C84DE39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6D5C03-C776-4AE0-9E06-710D98081F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0" name="PlaceHolder 1"/>
          <p:cNvSpPr>
            <a:spLocks noGrp="1"/>
          </p:cNvSpPr>
          <p:nvPr>
            <p:ph type="sldImg"/>
          </p:nvPr>
        </p:nvSpPr>
        <p:spPr>
          <a:xfrm>
            <a:off x="985680" y="741240"/>
            <a:ext cx="4886640" cy="3665520"/>
          </a:xfrm>
          <a:prstGeom prst="rect">
            <a:avLst/>
          </a:prstGeom>
          <a:ln w="0">
            <a:noFill/>
          </a:ln>
        </p:spPr>
      </p:sp>
      <p:sp>
        <p:nvSpPr>
          <p:cNvPr id="71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B5CAE-8E32-42BD-B82A-05B63450BB2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68CA0-BA5E-4825-9B7C-1D3F4F81B6E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4" name="PlaceHolder 1"/>
          <p:cNvSpPr>
            <a:spLocks noGrp="1"/>
          </p:cNvSpPr>
          <p:nvPr>
            <p:ph type="sldImg"/>
          </p:nvPr>
        </p:nvSpPr>
        <p:spPr>
          <a:xfrm>
            <a:off x="985680" y="741240"/>
            <a:ext cx="4886640" cy="3665520"/>
          </a:xfrm>
          <a:prstGeom prst="rect">
            <a:avLst/>
          </a:prstGeom>
          <a:ln w="0">
            <a:noFill/>
          </a:ln>
        </p:spPr>
      </p:sp>
      <p:sp>
        <p:nvSpPr>
          <p:cNvPr id="71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52F88-7BA1-45F5-A613-073361D1095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899300-82DC-42EF-9115-DF1472E2626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8" name="PlaceHolder 1"/>
          <p:cNvSpPr>
            <a:spLocks noGrp="1"/>
          </p:cNvSpPr>
          <p:nvPr>
            <p:ph type="sldImg"/>
          </p:nvPr>
        </p:nvSpPr>
        <p:spPr>
          <a:xfrm>
            <a:off x="985680" y="741240"/>
            <a:ext cx="4886640" cy="3665520"/>
          </a:xfrm>
          <a:prstGeom prst="rect">
            <a:avLst/>
          </a:prstGeom>
          <a:ln w="0">
            <a:noFill/>
          </a:ln>
        </p:spPr>
      </p:sp>
      <p:sp>
        <p:nvSpPr>
          <p:cNvPr id="7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2CF974-7F5D-4B90-AF32-775F9691B3C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D0DBE-6AA6-47E0-AA64-95588D538D8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2" name="PlaceHolder 1"/>
          <p:cNvSpPr>
            <a:spLocks noGrp="1"/>
          </p:cNvSpPr>
          <p:nvPr>
            <p:ph type="sldImg"/>
          </p:nvPr>
        </p:nvSpPr>
        <p:spPr>
          <a:xfrm>
            <a:off x="985680" y="741240"/>
            <a:ext cx="4886640" cy="3665520"/>
          </a:xfrm>
          <a:prstGeom prst="rect">
            <a:avLst/>
          </a:prstGeom>
          <a:ln w="0">
            <a:noFill/>
          </a:ln>
        </p:spPr>
      </p:sp>
      <p:sp>
        <p:nvSpPr>
          <p:cNvPr id="71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8A503D-B995-4473-8EDF-27ECCF566E6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ECB71-80B0-44BD-943F-831A9C33D1C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6" name="PlaceHolder 1"/>
          <p:cNvSpPr>
            <a:spLocks noGrp="1"/>
          </p:cNvSpPr>
          <p:nvPr>
            <p:ph type="sldImg"/>
          </p:nvPr>
        </p:nvSpPr>
        <p:spPr>
          <a:xfrm>
            <a:off x="985680" y="741240"/>
            <a:ext cx="4886640" cy="3665520"/>
          </a:xfrm>
          <a:prstGeom prst="rect">
            <a:avLst/>
          </a:prstGeom>
          <a:ln w="0">
            <a:noFill/>
          </a:ln>
        </p:spPr>
      </p:sp>
      <p:sp>
        <p:nvSpPr>
          <p:cNvPr id="71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B05C7-6273-48DB-8460-0C4CC4A6BD0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74030-F90F-427A-BC69-74066AE9C04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8" name="PlaceHolder 1"/>
          <p:cNvSpPr>
            <a:spLocks noGrp="1"/>
          </p:cNvSpPr>
          <p:nvPr>
            <p:ph type="sldImg"/>
          </p:nvPr>
        </p:nvSpPr>
        <p:spPr>
          <a:xfrm>
            <a:off x="985680" y="741240"/>
            <a:ext cx="4886640" cy="3665520"/>
          </a:xfrm>
          <a:prstGeom prst="rect">
            <a:avLst/>
          </a:prstGeom>
          <a:ln w="0">
            <a:noFill/>
          </a:ln>
        </p:spPr>
      </p:sp>
      <p:sp>
        <p:nvSpPr>
          <p:cNvPr id="70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9C3EE-923F-407E-BE8F-D5A8CC81698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5881F-F482-4F25-A924-0DEC9638143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0" name="PlaceHolder 1"/>
          <p:cNvSpPr>
            <a:spLocks noGrp="1"/>
          </p:cNvSpPr>
          <p:nvPr>
            <p:ph type="sldImg"/>
          </p:nvPr>
        </p:nvSpPr>
        <p:spPr>
          <a:xfrm>
            <a:off x="985680" y="741240"/>
            <a:ext cx="4886640" cy="3665520"/>
          </a:xfrm>
          <a:prstGeom prst="rect">
            <a:avLst/>
          </a:prstGeom>
          <a:ln w="0">
            <a:noFill/>
          </a:ln>
        </p:spPr>
      </p:sp>
      <p:sp>
        <p:nvSpPr>
          <p:cNvPr id="7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1AB57-D523-4BFD-9E32-C24503302E3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AC227F-D003-4278-B740-E0A51783DC9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4" name="PlaceHolder 1"/>
          <p:cNvSpPr>
            <a:spLocks noGrp="1"/>
          </p:cNvSpPr>
          <p:nvPr>
            <p:ph type="sldImg"/>
          </p:nvPr>
        </p:nvSpPr>
        <p:spPr>
          <a:xfrm>
            <a:off x="985680" y="741240"/>
            <a:ext cx="4886640" cy="3665520"/>
          </a:xfrm>
          <a:prstGeom prst="rect">
            <a:avLst/>
          </a:prstGeom>
          <a:ln w="0">
            <a:noFill/>
          </a:ln>
        </p:spPr>
      </p:sp>
      <p:sp>
        <p:nvSpPr>
          <p:cNvPr id="71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E2CF91-3426-4110-8CAE-7F01F6B5168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F48EA0-50EF-4B13-AA2A-B380EE4DF7C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8" name="PlaceHolder 1"/>
          <p:cNvSpPr>
            <a:spLocks noGrp="1"/>
          </p:cNvSpPr>
          <p:nvPr>
            <p:ph type="sldImg"/>
          </p:nvPr>
        </p:nvSpPr>
        <p:spPr>
          <a:xfrm>
            <a:off x="985680" y="741240"/>
            <a:ext cx="4886640" cy="3665520"/>
          </a:xfrm>
          <a:prstGeom prst="rect">
            <a:avLst/>
          </a:prstGeom>
          <a:ln w="0">
            <a:noFill/>
          </a:ln>
        </p:spPr>
      </p:sp>
      <p:sp>
        <p:nvSpPr>
          <p:cNvPr id="71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E82DBE-B794-483A-AE99-31BC226E239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E3755-888E-413F-972F-6ABFE972F1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2" name="PlaceHolder 1"/>
          <p:cNvSpPr>
            <a:spLocks noGrp="1"/>
          </p:cNvSpPr>
          <p:nvPr>
            <p:ph type="sldImg"/>
          </p:nvPr>
        </p:nvSpPr>
        <p:spPr>
          <a:xfrm>
            <a:off x="985680" y="741240"/>
            <a:ext cx="4886640" cy="3665520"/>
          </a:xfrm>
          <a:prstGeom prst="rect">
            <a:avLst/>
          </a:prstGeom>
          <a:ln w="0">
            <a:noFill/>
          </a:ln>
        </p:spPr>
      </p:sp>
      <p:sp>
        <p:nvSpPr>
          <p:cNvPr id="7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8B2D06-FAC5-43F8-80C4-C16DE0077C2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D16DC5-82B3-49CF-BF71-ED3B3D6017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6" name="PlaceHolder 1"/>
          <p:cNvSpPr>
            <a:spLocks noGrp="1"/>
          </p:cNvSpPr>
          <p:nvPr>
            <p:ph type="sldImg"/>
          </p:nvPr>
        </p:nvSpPr>
        <p:spPr>
          <a:xfrm>
            <a:off x="985680" y="741240"/>
            <a:ext cx="4886640" cy="3665520"/>
          </a:xfrm>
          <a:prstGeom prst="rect">
            <a:avLst/>
          </a:prstGeom>
          <a:ln w="0">
            <a:noFill/>
          </a:ln>
        </p:spPr>
      </p:sp>
      <p:sp>
        <p:nvSpPr>
          <p:cNvPr id="71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404AB6-E59C-4CDB-BD1C-733B0C0B98B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45721-BF81-48F9-99DA-BF6DFDCFAB8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0" name="PlaceHolder 1"/>
          <p:cNvSpPr>
            <a:spLocks noGrp="1"/>
          </p:cNvSpPr>
          <p:nvPr>
            <p:ph type="sldImg"/>
          </p:nvPr>
        </p:nvSpPr>
        <p:spPr>
          <a:xfrm>
            <a:off x="985680" y="741240"/>
            <a:ext cx="4886640" cy="3665520"/>
          </a:xfrm>
          <a:prstGeom prst="rect">
            <a:avLst/>
          </a:prstGeom>
          <a:ln w="0">
            <a:noFill/>
          </a:ln>
        </p:spPr>
      </p:sp>
      <p:sp>
        <p:nvSpPr>
          <p:cNvPr id="71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8356C-EC94-4CCB-926D-9588620B3F0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16F89-67A9-4F7E-88B5-2676CF24FE5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4" name="PlaceHolder 1"/>
          <p:cNvSpPr>
            <a:spLocks noGrp="1"/>
          </p:cNvSpPr>
          <p:nvPr>
            <p:ph type="sldImg"/>
          </p:nvPr>
        </p:nvSpPr>
        <p:spPr>
          <a:xfrm>
            <a:off x="985680" y="741240"/>
            <a:ext cx="4886640" cy="3665520"/>
          </a:xfrm>
          <a:prstGeom prst="rect">
            <a:avLst/>
          </a:prstGeom>
          <a:ln w="0">
            <a:noFill/>
          </a:ln>
        </p:spPr>
      </p:sp>
      <p:sp>
        <p:nvSpPr>
          <p:cNvPr id="7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4D3356-65FB-4536-8ED6-3E322128A30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38CD73-F8CC-4F1E-A21C-FB8DE3581C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8" name="PlaceHolder 1"/>
          <p:cNvSpPr>
            <a:spLocks noGrp="1"/>
          </p:cNvSpPr>
          <p:nvPr>
            <p:ph type="sldImg"/>
          </p:nvPr>
        </p:nvSpPr>
        <p:spPr>
          <a:xfrm>
            <a:off x="985680" y="741240"/>
            <a:ext cx="4886640" cy="3665520"/>
          </a:xfrm>
          <a:prstGeom prst="rect">
            <a:avLst/>
          </a:prstGeom>
          <a:ln w="0">
            <a:noFill/>
          </a:ln>
        </p:spPr>
      </p:sp>
      <p:sp>
        <p:nvSpPr>
          <p:cNvPr id="7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F3933-2DDB-462B-8241-74DCCC308FC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EB43A-B49B-4DF8-B1F6-B295F0B7995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2" name="PlaceHolder 1"/>
          <p:cNvSpPr>
            <a:spLocks noGrp="1"/>
          </p:cNvSpPr>
          <p:nvPr>
            <p:ph type="sldImg"/>
          </p:nvPr>
        </p:nvSpPr>
        <p:spPr>
          <a:xfrm>
            <a:off x="985680" y="741240"/>
            <a:ext cx="4886640" cy="3665520"/>
          </a:xfrm>
          <a:prstGeom prst="rect">
            <a:avLst/>
          </a:prstGeom>
          <a:ln w="0">
            <a:noFill/>
          </a:ln>
        </p:spPr>
      </p:sp>
      <p:sp>
        <p:nvSpPr>
          <p:cNvPr id="7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BF6EA-13A1-4E3F-93F9-FAF8A9D9920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0DE80-7558-4014-BD95-077848B967E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6" name="PlaceHolder 1"/>
          <p:cNvSpPr>
            <a:spLocks noGrp="1"/>
          </p:cNvSpPr>
          <p:nvPr>
            <p:ph type="sldImg"/>
          </p:nvPr>
        </p:nvSpPr>
        <p:spPr>
          <a:xfrm>
            <a:off x="985680" y="741240"/>
            <a:ext cx="4886640" cy="3665520"/>
          </a:xfrm>
          <a:prstGeom prst="rect">
            <a:avLst/>
          </a:prstGeom>
          <a:ln w="0">
            <a:noFill/>
          </a:ln>
        </p:spPr>
      </p:sp>
      <p:sp>
        <p:nvSpPr>
          <p:cNvPr id="7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6BB1BE-6A6F-4E30-BF68-ECBD117372C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719AC-EE14-4F45-85E9-BFA500D0753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2" name="PlaceHolder 1"/>
          <p:cNvSpPr>
            <a:spLocks noGrp="1"/>
          </p:cNvSpPr>
          <p:nvPr>
            <p:ph type="sldImg"/>
          </p:nvPr>
        </p:nvSpPr>
        <p:spPr>
          <a:xfrm>
            <a:off x="985680" y="741240"/>
            <a:ext cx="4886640" cy="3665520"/>
          </a:xfrm>
          <a:prstGeom prst="rect">
            <a:avLst/>
          </a:prstGeom>
          <a:ln w="0">
            <a:noFill/>
          </a:ln>
        </p:spPr>
      </p:sp>
      <p:sp>
        <p:nvSpPr>
          <p:cNvPr id="70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29889E-AA51-4918-9505-917841F6AA7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DF2CE-F1D9-4DA7-8FA4-D5DCA38B2CD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0" name="PlaceHolder 1"/>
          <p:cNvSpPr>
            <a:spLocks noGrp="1"/>
          </p:cNvSpPr>
          <p:nvPr>
            <p:ph type="sldImg"/>
          </p:nvPr>
        </p:nvSpPr>
        <p:spPr>
          <a:xfrm>
            <a:off x="985680" y="741240"/>
            <a:ext cx="4886640" cy="3665520"/>
          </a:xfrm>
          <a:prstGeom prst="rect">
            <a:avLst/>
          </a:prstGeom>
          <a:ln w="0">
            <a:noFill/>
          </a:ln>
        </p:spPr>
      </p:sp>
      <p:sp>
        <p:nvSpPr>
          <p:cNvPr id="7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4DC7F-E499-4D7F-A914-74FE1820F71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DDB45F-2552-4B1B-BEF8-672037B214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4" name="PlaceHolder 1"/>
          <p:cNvSpPr>
            <a:spLocks noGrp="1"/>
          </p:cNvSpPr>
          <p:nvPr>
            <p:ph type="sldImg"/>
          </p:nvPr>
        </p:nvSpPr>
        <p:spPr>
          <a:xfrm>
            <a:off x="985680" y="741240"/>
            <a:ext cx="4886640" cy="3665520"/>
          </a:xfrm>
          <a:prstGeom prst="rect">
            <a:avLst/>
          </a:prstGeom>
          <a:ln w="0">
            <a:noFill/>
          </a:ln>
        </p:spPr>
      </p:sp>
      <p:sp>
        <p:nvSpPr>
          <p:cNvPr id="7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59E58D-8A1C-4D33-A76B-7ACE5D09C6C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0C01B-BD28-4AFD-AEA9-5CBCF1ABE1A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8" name="PlaceHolder 1"/>
          <p:cNvSpPr>
            <a:spLocks noGrp="1"/>
          </p:cNvSpPr>
          <p:nvPr>
            <p:ph type="sldImg"/>
          </p:nvPr>
        </p:nvSpPr>
        <p:spPr>
          <a:xfrm>
            <a:off x="985680" y="741240"/>
            <a:ext cx="4886640" cy="3665520"/>
          </a:xfrm>
          <a:prstGeom prst="rect">
            <a:avLst/>
          </a:prstGeom>
          <a:ln w="0">
            <a:noFill/>
          </a:ln>
        </p:spPr>
      </p:sp>
      <p:sp>
        <p:nvSpPr>
          <p:cNvPr id="7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F9014A-653B-4491-98AA-CDA824EC634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E9C45-D0A0-4212-8DFC-C43B5CD142A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2" name="PlaceHolder 1"/>
          <p:cNvSpPr>
            <a:spLocks noGrp="1"/>
          </p:cNvSpPr>
          <p:nvPr>
            <p:ph type="sldImg"/>
          </p:nvPr>
        </p:nvSpPr>
        <p:spPr>
          <a:xfrm>
            <a:off x="985680" y="741240"/>
            <a:ext cx="4886640" cy="3665520"/>
          </a:xfrm>
          <a:prstGeom prst="rect">
            <a:avLst/>
          </a:prstGeom>
          <a:ln w="0">
            <a:noFill/>
          </a:ln>
        </p:spPr>
      </p:sp>
      <p:sp>
        <p:nvSpPr>
          <p:cNvPr id="7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B7A57-B5F2-4CC9-A512-2478291122F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E5A97F-4404-4D93-8785-BD43791DCB0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6" name="PlaceHolder 1"/>
          <p:cNvSpPr>
            <a:spLocks noGrp="1"/>
          </p:cNvSpPr>
          <p:nvPr>
            <p:ph type="sldImg"/>
          </p:nvPr>
        </p:nvSpPr>
        <p:spPr>
          <a:xfrm>
            <a:off x="985680" y="741240"/>
            <a:ext cx="4886640" cy="3665520"/>
          </a:xfrm>
          <a:prstGeom prst="rect">
            <a:avLst/>
          </a:prstGeom>
          <a:ln w="0">
            <a:noFill/>
          </a:ln>
        </p:spPr>
      </p:sp>
      <p:sp>
        <p:nvSpPr>
          <p:cNvPr id="7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DE1EDE-9A0E-4616-94E0-552313FAE51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5C43A-6487-4122-8180-E17C783E7CF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0" name="PlaceHolder 1"/>
          <p:cNvSpPr>
            <a:spLocks noGrp="1"/>
          </p:cNvSpPr>
          <p:nvPr>
            <p:ph type="sldImg"/>
          </p:nvPr>
        </p:nvSpPr>
        <p:spPr>
          <a:xfrm>
            <a:off x="985680" y="741240"/>
            <a:ext cx="4886640" cy="3665520"/>
          </a:xfrm>
          <a:prstGeom prst="rect">
            <a:avLst/>
          </a:prstGeom>
          <a:ln w="0">
            <a:noFill/>
          </a:ln>
        </p:spPr>
      </p:sp>
      <p:sp>
        <p:nvSpPr>
          <p:cNvPr id="7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03B330-5D58-4D18-B772-7B5DED9DD54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E3329-28BC-4F67-B6C1-1ED5561D5A9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4" name="PlaceHolder 1"/>
          <p:cNvSpPr>
            <a:spLocks noGrp="1"/>
          </p:cNvSpPr>
          <p:nvPr>
            <p:ph type="sldImg"/>
          </p:nvPr>
        </p:nvSpPr>
        <p:spPr>
          <a:xfrm>
            <a:off x="985680" y="741240"/>
            <a:ext cx="4886640" cy="3665520"/>
          </a:xfrm>
          <a:prstGeom prst="rect">
            <a:avLst/>
          </a:prstGeom>
          <a:ln w="0">
            <a:noFill/>
          </a:ln>
        </p:spPr>
      </p:sp>
      <p:sp>
        <p:nvSpPr>
          <p:cNvPr id="7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349F76-4744-47CC-A87F-B93403546A5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5C78CC-7CCB-4BC3-940F-8D51C1C36E3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8" name="PlaceHolder 1"/>
          <p:cNvSpPr>
            <a:spLocks noGrp="1"/>
          </p:cNvSpPr>
          <p:nvPr>
            <p:ph type="sldImg"/>
          </p:nvPr>
        </p:nvSpPr>
        <p:spPr>
          <a:xfrm>
            <a:off x="985680" y="741240"/>
            <a:ext cx="4886640" cy="3665520"/>
          </a:xfrm>
          <a:prstGeom prst="rect">
            <a:avLst/>
          </a:prstGeom>
          <a:ln w="0">
            <a:noFill/>
          </a:ln>
        </p:spPr>
      </p:sp>
      <p:sp>
        <p:nvSpPr>
          <p:cNvPr id="7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9DD8C6-5BB7-4AE0-9C7D-CBFAFDDC3B5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6DA06-7CC3-4781-AE44-3406929A288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2" name="PlaceHolder 1"/>
          <p:cNvSpPr>
            <a:spLocks noGrp="1"/>
          </p:cNvSpPr>
          <p:nvPr>
            <p:ph type="sldImg"/>
          </p:nvPr>
        </p:nvSpPr>
        <p:spPr>
          <a:xfrm>
            <a:off x="985680" y="741240"/>
            <a:ext cx="4886640" cy="3665520"/>
          </a:xfrm>
          <a:prstGeom prst="rect">
            <a:avLst/>
          </a:prstGeom>
          <a:ln w="0">
            <a:noFill/>
          </a:ln>
        </p:spPr>
      </p:sp>
      <p:sp>
        <p:nvSpPr>
          <p:cNvPr id="7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59744-BFA5-4C82-A3A8-6E27EB987E0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D69DC-A3F7-45B1-B088-3AD476E9F86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6" name="PlaceHolder 1"/>
          <p:cNvSpPr>
            <a:spLocks noGrp="1"/>
          </p:cNvSpPr>
          <p:nvPr>
            <p:ph type="sldImg"/>
          </p:nvPr>
        </p:nvSpPr>
        <p:spPr>
          <a:xfrm>
            <a:off x="985680" y="741240"/>
            <a:ext cx="4886640" cy="3665520"/>
          </a:xfrm>
          <a:prstGeom prst="rect">
            <a:avLst/>
          </a:prstGeom>
          <a:ln w="0">
            <a:noFill/>
          </a:ln>
        </p:spPr>
      </p:sp>
      <p:sp>
        <p:nvSpPr>
          <p:cNvPr id="7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E69F9-D7AD-462E-BF9E-BDF84EB7C71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3D353-8E32-4885-B339-9971456DE87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6" name="PlaceHolder 1"/>
          <p:cNvSpPr>
            <a:spLocks noGrp="1"/>
          </p:cNvSpPr>
          <p:nvPr>
            <p:ph type="sldImg"/>
          </p:nvPr>
        </p:nvSpPr>
        <p:spPr>
          <a:xfrm>
            <a:off x="985680" y="741240"/>
            <a:ext cx="4886640" cy="3665520"/>
          </a:xfrm>
          <a:prstGeom prst="rect">
            <a:avLst/>
          </a:prstGeom>
          <a:ln w="0">
            <a:noFill/>
          </a:ln>
        </p:spPr>
      </p:sp>
      <p:sp>
        <p:nvSpPr>
          <p:cNvPr id="70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2856C-6F85-42FB-AA2C-4C4BAF7775C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719C91-412F-4175-A0A1-7A10A098DB4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0" name="PlaceHolder 1"/>
          <p:cNvSpPr>
            <a:spLocks noGrp="1"/>
          </p:cNvSpPr>
          <p:nvPr>
            <p:ph type="sldImg"/>
          </p:nvPr>
        </p:nvSpPr>
        <p:spPr>
          <a:xfrm>
            <a:off x="985680" y="741240"/>
            <a:ext cx="4886640" cy="3665520"/>
          </a:xfrm>
          <a:prstGeom prst="rect">
            <a:avLst/>
          </a:prstGeom>
          <a:ln w="0">
            <a:noFill/>
          </a:ln>
        </p:spPr>
      </p:sp>
      <p:sp>
        <p:nvSpPr>
          <p:cNvPr id="7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4C5BF-3F2A-467C-B2F3-1719A2C733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9CD2A9-8319-4B7F-A107-EF593533196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4" name="PlaceHolder 1"/>
          <p:cNvSpPr>
            <a:spLocks noGrp="1"/>
          </p:cNvSpPr>
          <p:nvPr>
            <p:ph type="sldImg"/>
          </p:nvPr>
        </p:nvSpPr>
        <p:spPr>
          <a:xfrm>
            <a:off x="985680" y="741240"/>
            <a:ext cx="4886640" cy="3665520"/>
          </a:xfrm>
          <a:prstGeom prst="rect">
            <a:avLst/>
          </a:prstGeom>
          <a:ln w="0">
            <a:noFill/>
          </a:ln>
        </p:spPr>
      </p:sp>
      <p:sp>
        <p:nvSpPr>
          <p:cNvPr id="7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59AB4-CBE4-4829-AA66-7225B79F2AE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12004-BEDD-4472-828B-4BD2116596A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8" name="PlaceHolder 1"/>
          <p:cNvSpPr>
            <a:spLocks noGrp="1"/>
          </p:cNvSpPr>
          <p:nvPr>
            <p:ph type="sldImg"/>
          </p:nvPr>
        </p:nvSpPr>
        <p:spPr>
          <a:xfrm>
            <a:off x="985680" y="741240"/>
            <a:ext cx="4886640" cy="3665520"/>
          </a:xfrm>
          <a:prstGeom prst="rect">
            <a:avLst/>
          </a:prstGeom>
          <a:ln w="0">
            <a:noFill/>
          </a:ln>
        </p:spPr>
      </p:sp>
      <p:sp>
        <p:nvSpPr>
          <p:cNvPr id="7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2EC0A8-97D3-4FC5-A730-F716F7E03F6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D51C15-642A-4B4E-A818-212EFFC1000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2" name="PlaceHolder 1"/>
          <p:cNvSpPr>
            <a:spLocks noGrp="1"/>
          </p:cNvSpPr>
          <p:nvPr>
            <p:ph type="sldImg"/>
          </p:nvPr>
        </p:nvSpPr>
        <p:spPr>
          <a:xfrm>
            <a:off x="985680" y="741240"/>
            <a:ext cx="4886640" cy="3665520"/>
          </a:xfrm>
          <a:prstGeom prst="rect">
            <a:avLst/>
          </a:prstGeom>
          <a:ln w="0">
            <a:noFill/>
          </a:ln>
        </p:spPr>
      </p:sp>
      <p:sp>
        <p:nvSpPr>
          <p:cNvPr id="7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E0E61A-76BB-4BAF-A803-04EAA78777F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86797-EAE0-4455-81A7-17F41412585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6" name="PlaceHolder 1"/>
          <p:cNvSpPr>
            <a:spLocks noGrp="1"/>
          </p:cNvSpPr>
          <p:nvPr>
            <p:ph type="sldImg"/>
          </p:nvPr>
        </p:nvSpPr>
        <p:spPr>
          <a:xfrm>
            <a:off x="985680" y="741240"/>
            <a:ext cx="4886640" cy="3665520"/>
          </a:xfrm>
          <a:prstGeom prst="rect">
            <a:avLst/>
          </a:prstGeom>
          <a:ln w="0">
            <a:noFill/>
          </a:ln>
        </p:spPr>
      </p:sp>
      <p:sp>
        <p:nvSpPr>
          <p:cNvPr id="7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845D4-2C08-4AB7-A8CF-AA34ED95F40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32433-B894-40B2-801D-9BCCB02F706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0" name="PlaceHolder 1"/>
          <p:cNvSpPr>
            <a:spLocks noGrp="1"/>
          </p:cNvSpPr>
          <p:nvPr>
            <p:ph type="sldImg"/>
          </p:nvPr>
        </p:nvSpPr>
        <p:spPr>
          <a:xfrm>
            <a:off x="985680" y="741240"/>
            <a:ext cx="4886640" cy="3665520"/>
          </a:xfrm>
          <a:prstGeom prst="rect">
            <a:avLst/>
          </a:prstGeom>
          <a:ln w="0">
            <a:noFill/>
          </a:ln>
        </p:spPr>
      </p:sp>
      <p:sp>
        <p:nvSpPr>
          <p:cNvPr id="7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55F08-39BC-47E9-B8C9-A0E4752E540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2A457-1861-4784-9031-C0BA5A92B3A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4" name="PlaceHolder 1"/>
          <p:cNvSpPr>
            <a:spLocks noGrp="1"/>
          </p:cNvSpPr>
          <p:nvPr>
            <p:ph type="sldImg"/>
          </p:nvPr>
        </p:nvSpPr>
        <p:spPr>
          <a:xfrm>
            <a:off x="985680" y="741240"/>
            <a:ext cx="4886640" cy="3665520"/>
          </a:xfrm>
          <a:prstGeom prst="rect">
            <a:avLst/>
          </a:prstGeom>
          <a:ln w="0">
            <a:noFill/>
          </a:ln>
        </p:spPr>
      </p:sp>
      <p:sp>
        <p:nvSpPr>
          <p:cNvPr id="7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9938AA-3CEF-4F23-93F5-5193B5F33E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3695C4-2A27-4795-83A6-ACA014D6E34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8" name="PlaceHolder 1"/>
          <p:cNvSpPr>
            <a:spLocks noGrp="1"/>
          </p:cNvSpPr>
          <p:nvPr>
            <p:ph type="sldImg"/>
          </p:nvPr>
        </p:nvSpPr>
        <p:spPr>
          <a:xfrm>
            <a:off x="985680" y="741240"/>
            <a:ext cx="4886640" cy="3665520"/>
          </a:xfrm>
          <a:prstGeom prst="rect">
            <a:avLst/>
          </a:prstGeom>
          <a:ln w="0">
            <a:noFill/>
          </a:ln>
        </p:spPr>
      </p:sp>
      <p:sp>
        <p:nvSpPr>
          <p:cNvPr id="7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BA6530-0500-4D9F-A835-CE273D0FC46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76231-A102-406E-BF75-797FF4A5F90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2" name="PlaceHolder 1"/>
          <p:cNvSpPr>
            <a:spLocks noGrp="1"/>
          </p:cNvSpPr>
          <p:nvPr>
            <p:ph type="sldImg"/>
          </p:nvPr>
        </p:nvSpPr>
        <p:spPr>
          <a:xfrm>
            <a:off x="985680" y="741240"/>
            <a:ext cx="4886640" cy="3665520"/>
          </a:xfrm>
          <a:prstGeom prst="rect">
            <a:avLst/>
          </a:prstGeom>
          <a:ln w="0">
            <a:noFill/>
          </a:ln>
        </p:spPr>
      </p:sp>
      <p:sp>
        <p:nvSpPr>
          <p:cNvPr id="7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120F0-0B0B-4108-B99B-8016EE1CA7E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2B6A7-9E8E-445E-9C4E-E539EA0E283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6" name="PlaceHolder 1"/>
          <p:cNvSpPr>
            <a:spLocks noGrp="1"/>
          </p:cNvSpPr>
          <p:nvPr>
            <p:ph type="sldImg"/>
          </p:nvPr>
        </p:nvSpPr>
        <p:spPr>
          <a:xfrm>
            <a:off x="985680" y="741240"/>
            <a:ext cx="4886640" cy="3665520"/>
          </a:xfrm>
          <a:prstGeom prst="rect">
            <a:avLst/>
          </a:prstGeom>
          <a:ln w="0">
            <a:noFill/>
          </a:ln>
        </p:spPr>
      </p:sp>
      <p:sp>
        <p:nvSpPr>
          <p:cNvPr id="7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4C8B9-3EBE-4F10-BC31-68D473278F5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C012B-485B-49FD-A7C8-3A1BC0399A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0" name="PlaceHolder 1"/>
          <p:cNvSpPr>
            <a:spLocks noGrp="1"/>
          </p:cNvSpPr>
          <p:nvPr>
            <p:ph type="sldImg"/>
          </p:nvPr>
        </p:nvSpPr>
        <p:spPr>
          <a:xfrm>
            <a:off x="985680" y="741240"/>
            <a:ext cx="4886640" cy="3665520"/>
          </a:xfrm>
          <a:prstGeom prst="rect">
            <a:avLst/>
          </a:prstGeom>
          <a:ln w="0">
            <a:noFill/>
          </a:ln>
        </p:spPr>
      </p:sp>
      <p:sp>
        <p:nvSpPr>
          <p:cNvPr id="70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433E0-7C73-45AA-8340-5B5A21EA0E4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443FC-39B5-403A-8178-A42FE848A8C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0" name="PlaceHolder 1"/>
          <p:cNvSpPr>
            <a:spLocks noGrp="1"/>
          </p:cNvSpPr>
          <p:nvPr>
            <p:ph type="sldImg"/>
          </p:nvPr>
        </p:nvSpPr>
        <p:spPr>
          <a:xfrm>
            <a:off x="985680" y="741240"/>
            <a:ext cx="4886640" cy="3665520"/>
          </a:xfrm>
          <a:prstGeom prst="rect">
            <a:avLst/>
          </a:prstGeom>
          <a:ln w="0">
            <a:noFill/>
          </a:ln>
        </p:spPr>
      </p:sp>
      <p:sp>
        <p:nvSpPr>
          <p:cNvPr id="7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EE5953-E6AC-432A-BF2E-9E2C18E109C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936D6-3003-48DC-9F5E-FB97F105CDB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4" name="PlaceHolder 1"/>
          <p:cNvSpPr>
            <a:spLocks noGrp="1"/>
          </p:cNvSpPr>
          <p:nvPr>
            <p:ph type="sldImg"/>
          </p:nvPr>
        </p:nvSpPr>
        <p:spPr>
          <a:xfrm>
            <a:off x="985680" y="741240"/>
            <a:ext cx="4886640" cy="3665520"/>
          </a:xfrm>
          <a:prstGeom prst="rect">
            <a:avLst/>
          </a:prstGeom>
          <a:ln w="0">
            <a:noFill/>
          </a:ln>
        </p:spPr>
      </p:sp>
      <p:sp>
        <p:nvSpPr>
          <p:cNvPr id="7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7E6DFF-3755-4C49-9764-C9C9BA9A15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439A4-BFEF-4450-A90D-3612425A623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8" name="PlaceHolder 1"/>
          <p:cNvSpPr>
            <a:spLocks noGrp="1"/>
          </p:cNvSpPr>
          <p:nvPr>
            <p:ph type="sldImg"/>
          </p:nvPr>
        </p:nvSpPr>
        <p:spPr>
          <a:xfrm>
            <a:off x="985680" y="741240"/>
            <a:ext cx="4886640" cy="3665520"/>
          </a:xfrm>
          <a:prstGeom prst="rect">
            <a:avLst/>
          </a:prstGeom>
          <a:ln w="0">
            <a:noFill/>
          </a:ln>
        </p:spPr>
      </p:sp>
      <p:sp>
        <p:nvSpPr>
          <p:cNvPr id="7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C78DB-D781-4EC5-B105-E0A8730EC78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63F33-488D-4F8B-A125-D8A55C097B6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2" name="PlaceHolder 1"/>
          <p:cNvSpPr>
            <a:spLocks noGrp="1"/>
          </p:cNvSpPr>
          <p:nvPr>
            <p:ph type="sldImg"/>
          </p:nvPr>
        </p:nvSpPr>
        <p:spPr>
          <a:xfrm>
            <a:off x="985680" y="741240"/>
            <a:ext cx="4886640" cy="3665520"/>
          </a:xfrm>
          <a:prstGeom prst="rect">
            <a:avLst/>
          </a:prstGeom>
          <a:ln w="0">
            <a:noFill/>
          </a:ln>
        </p:spPr>
      </p:sp>
      <p:sp>
        <p:nvSpPr>
          <p:cNvPr id="7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F4780-BFFB-4CDF-98BA-F95A6D78E72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D72549-2DEF-4FAF-B80F-55C6ECED537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6" name="PlaceHolder 1"/>
          <p:cNvSpPr>
            <a:spLocks noGrp="1"/>
          </p:cNvSpPr>
          <p:nvPr>
            <p:ph type="sldImg"/>
          </p:nvPr>
        </p:nvSpPr>
        <p:spPr>
          <a:xfrm>
            <a:off x="985680" y="741240"/>
            <a:ext cx="4886640" cy="3665520"/>
          </a:xfrm>
          <a:prstGeom prst="rect">
            <a:avLst/>
          </a:prstGeom>
          <a:ln w="0">
            <a:noFill/>
          </a:ln>
        </p:spPr>
      </p:sp>
      <p:sp>
        <p:nvSpPr>
          <p:cNvPr id="7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8D8036-328E-415E-9523-783274E8729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6966A-1BEC-45CE-84F1-A4E4303B66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0" name="PlaceHolder 1"/>
          <p:cNvSpPr>
            <a:spLocks noGrp="1"/>
          </p:cNvSpPr>
          <p:nvPr>
            <p:ph type="sldImg"/>
          </p:nvPr>
        </p:nvSpPr>
        <p:spPr>
          <a:xfrm>
            <a:off x="985680" y="741240"/>
            <a:ext cx="4886640" cy="3665520"/>
          </a:xfrm>
          <a:prstGeom prst="rect">
            <a:avLst/>
          </a:prstGeom>
          <a:ln w="0">
            <a:noFill/>
          </a:ln>
        </p:spPr>
      </p:sp>
      <p:sp>
        <p:nvSpPr>
          <p:cNvPr id="7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3A40A7-0739-4C52-BDD9-E660959E0FD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CC5B31-4A10-4E33-AB7E-E9819594D5E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4" name="PlaceHolder 1"/>
          <p:cNvSpPr>
            <a:spLocks noGrp="1"/>
          </p:cNvSpPr>
          <p:nvPr>
            <p:ph type="sldImg"/>
          </p:nvPr>
        </p:nvSpPr>
        <p:spPr>
          <a:xfrm>
            <a:off x="985680" y="741240"/>
            <a:ext cx="4886640" cy="3665520"/>
          </a:xfrm>
          <a:prstGeom prst="rect">
            <a:avLst/>
          </a:prstGeom>
          <a:ln w="0">
            <a:noFill/>
          </a:ln>
        </p:spPr>
      </p:sp>
      <p:sp>
        <p:nvSpPr>
          <p:cNvPr id="7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F09EE-0B5E-4D02-891E-3372FD7B333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21B94-2949-41D4-BC8C-49F26B91EF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8" name="PlaceHolder 1"/>
          <p:cNvSpPr>
            <a:spLocks noGrp="1"/>
          </p:cNvSpPr>
          <p:nvPr>
            <p:ph type="sldImg"/>
          </p:nvPr>
        </p:nvSpPr>
        <p:spPr>
          <a:xfrm>
            <a:off x="985680" y="741240"/>
            <a:ext cx="4886640" cy="3665520"/>
          </a:xfrm>
          <a:prstGeom prst="rect">
            <a:avLst/>
          </a:prstGeom>
          <a:ln w="0">
            <a:noFill/>
          </a:ln>
        </p:spPr>
      </p:sp>
      <p:sp>
        <p:nvSpPr>
          <p:cNvPr id="7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B6C99B-1994-4E72-9338-722F9302633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25B880-86AD-4D0C-B10E-4814574FD53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02" name="PlaceHolder 1"/>
          <p:cNvSpPr>
            <a:spLocks noGrp="1"/>
          </p:cNvSpPr>
          <p:nvPr>
            <p:ph type="sldImg"/>
          </p:nvPr>
        </p:nvSpPr>
        <p:spPr>
          <a:xfrm>
            <a:off x="985680" y="741240"/>
            <a:ext cx="4886640" cy="3665520"/>
          </a:xfrm>
          <a:prstGeom prst="rect">
            <a:avLst/>
          </a:prstGeom>
          <a:ln w="0">
            <a:noFill/>
          </a:ln>
        </p:spPr>
      </p:sp>
      <p:sp>
        <p:nvSpPr>
          <p:cNvPr id="7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26EA0-EF5C-4447-BF40-CCFFC3BE3C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5A9359-9AA2-473D-9A32-DD279315AC0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06" name="PlaceHolder 1"/>
          <p:cNvSpPr>
            <a:spLocks noGrp="1"/>
          </p:cNvSpPr>
          <p:nvPr>
            <p:ph type="sldImg"/>
          </p:nvPr>
        </p:nvSpPr>
        <p:spPr>
          <a:xfrm>
            <a:off x="985680" y="741240"/>
            <a:ext cx="4886640" cy="3665520"/>
          </a:xfrm>
          <a:prstGeom prst="rect">
            <a:avLst/>
          </a:prstGeom>
          <a:ln w="0">
            <a:noFill/>
          </a:ln>
        </p:spPr>
      </p:sp>
      <p:sp>
        <p:nvSpPr>
          <p:cNvPr id="7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7E325-D096-4CE9-9BE5-C245CBE8517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9DC8E9-97A7-44A2-BD34-3DAE709CE2F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4" name="PlaceHolder 1"/>
          <p:cNvSpPr>
            <a:spLocks noGrp="1"/>
          </p:cNvSpPr>
          <p:nvPr>
            <p:ph type="sldImg"/>
          </p:nvPr>
        </p:nvSpPr>
        <p:spPr>
          <a:xfrm>
            <a:off x="985680" y="741240"/>
            <a:ext cx="4886640" cy="3665520"/>
          </a:xfrm>
          <a:prstGeom prst="rect">
            <a:avLst/>
          </a:prstGeom>
          <a:ln w="0">
            <a:noFill/>
          </a:ln>
        </p:spPr>
      </p:sp>
      <p:sp>
        <p:nvSpPr>
          <p:cNvPr id="70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6474C1-7ED6-4D8A-9014-1E5720EC622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80D988-496D-4494-BED0-77A086FB19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0" name="PlaceHolder 1"/>
          <p:cNvSpPr>
            <a:spLocks noGrp="1"/>
          </p:cNvSpPr>
          <p:nvPr>
            <p:ph type="sldImg"/>
          </p:nvPr>
        </p:nvSpPr>
        <p:spPr>
          <a:xfrm>
            <a:off x="985680" y="741240"/>
            <a:ext cx="4886640" cy="3665520"/>
          </a:xfrm>
          <a:prstGeom prst="rect">
            <a:avLst/>
          </a:prstGeom>
          <a:ln w="0">
            <a:noFill/>
          </a:ln>
        </p:spPr>
      </p:sp>
      <p:sp>
        <p:nvSpPr>
          <p:cNvPr id="7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70CEE-B0FA-493D-A15F-FE1AA409B08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80469-85C0-4CB1-B866-49384D12998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4" name="PlaceHolder 1"/>
          <p:cNvSpPr>
            <a:spLocks noGrp="1"/>
          </p:cNvSpPr>
          <p:nvPr>
            <p:ph type="sldImg"/>
          </p:nvPr>
        </p:nvSpPr>
        <p:spPr>
          <a:xfrm>
            <a:off x="985680" y="741240"/>
            <a:ext cx="4886640" cy="3665520"/>
          </a:xfrm>
          <a:prstGeom prst="rect">
            <a:avLst/>
          </a:prstGeom>
          <a:ln w="0">
            <a:noFill/>
          </a:ln>
        </p:spPr>
      </p:sp>
      <p:sp>
        <p:nvSpPr>
          <p:cNvPr id="7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38D36-C1F0-4327-A156-CF8AD14346B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F653BD-4B15-4CC2-A01B-F9A57F82537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8" name="PlaceHolder 1"/>
          <p:cNvSpPr>
            <a:spLocks noGrp="1"/>
          </p:cNvSpPr>
          <p:nvPr>
            <p:ph type="sldImg"/>
          </p:nvPr>
        </p:nvSpPr>
        <p:spPr>
          <a:xfrm>
            <a:off x="985680" y="741240"/>
            <a:ext cx="4886640" cy="3665520"/>
          </a:xfrm>
          <a:prstGeom prst="rect">
            <a:avLst/>
          </a:prstGeom>
          <a:ln w="0">
            <a:noFill/>
          </a:ln>
        </p:spPr>
      </p:sp>
      <p:sp>
        <p:nvSpPr>
          <p:cNvPr id="7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8C3B2-C911-4227-B485-77605B56785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12CD1-B610-4F68-AA8F-E16E8317A8E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22" name="PlaceHolder 1"/>
          <p:cNvSpPr>
            <a:spLocks noGrp="1"/>
          </p:cNvSpPr>
          <p:nvPr>
            <p:ph type="sldImg"/>
          </p:nvPr>
        </p:nvSpPr>
        <p:spPr>
          <a:xfrm>
            <a:off x="985680" y="741240"/>
            <a:ext cx="4886640" cy="3665520"/>
          </a:xfrm>
          <a:prstGeom prst="rect">
            <a:avLst/>
          </a:prstGeom>
          <a:ln w="0">
            <a:noFill/>
          </a:ln>
        </p:spPr>
      </p:sp>
      <p:sp>
        <p:nvSpPr>
          <p:cNvPr id="7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06C6E-CB9C-4D61-96B6-F172FAB140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699A3-2977-4827-A23E-587FE12CAA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26" name="PlaceHolder 1"/>
          <p:cNvSpPr>
            <a:spLocks noGrp="1"/>
          </p:cNvSpPr>
          <p:nvPr>
            <p:ph type="sldImg"/>
          </p:nvPr>
        </p:nvSpPr>
        <p:spPr>
          <a:xfrm>
            <a:off x="985680" y="741240"/>
            <a:ext cx="4886640" cy="3665520"/>
          </a:xfrm>
          <a:prstGeom prst="rect">
            <a:avLst/>
          </a:prstGeom>
          <a:ln w="0">
            <a:noFill/>
          </a:ln>
        </p:spPr>
      </p:sp>
      <p:sp>
        <p:nvSpPr>
          <p:cNvPr id="7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215723-6593-4302-AA16-623EA2FE08B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F75AD7-9A27-45C0-93DD-4352CBB6121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30" name="PlaceHolder 1"/>
          <p:cNvSpPr>
            <a:spLocks noGrp="1"/>
          </p:cNvSpPr>
          <p:nvPr>
            <p:ph type="sldImg"/>
          </p:nvPr>
        </p:nvSpPr>
        <p:spPr>
          <a:xfrm>
            <a:off x="985680" y="741240"/>
            <a:ext cx="4886640" cy="3665520"/>
          </a:xfrm>
          <a:prstGeom prst="rect">
            <a:avLst/>
          </a:prstGeom>
          <a:ln w="0">
            <a:noFill/>
          </a:ln>
        </p:spPr>
      </p:sp>
      <p:sp>
        <p:nvSpPr>
          <p:cNvPr id="7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5DECF-7DDA-43B4-8537-7C426645C05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EF582-9664-446A-9380-E338C234E9F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34" name="PlaceHolder 1"/>
          <p:cNvSpPr>
            <a:spLocks noGrp="1"/>
          </p:cNvSpPr>
          <p:nvPr>
            <p:ph type="sldImg"/>
          </p:nvPr>
        </p:nvSpPr>
        <p:spPr>
          <a:xfrm>
            <a:off x="985680" y="741240"/>
            <a:ext cx="4886640" cy="3665520"/>
          </a:xfrm>
          <a:prstGeom prst="rect">
            <a:avLst/>
          </a:prstGeom>
          <a:ln w="0">
            <a:noFill/>
          </a:ln>
        </p:spPr>
      </p:sp>
      <p:sp>
        <p:nvSpPr>
          <p:cNvPr id="7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DB6E50-A648-4410-BCED-EE8698DF6D7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6FE11-9173-46A5-A46F-6C39CEA32C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38" name="PlaceHolder 1"/>
          <p:cNvSpPr>
            <a:spLocks noGrp="1"/>
          </p:cNvSpPr>
          <p:nvPr>
            <p:ph type="sldImg"/>
          </p:nvPr>
        </p:nvSpPr>
        <p:spPr>
          <a:xfrm>
            <a:off x="985680" y="741240"/>
            <a:ext cx="4886640" cy="3665520"/>
          </a:xfrm>
          <a:prstGeom prst="rect">
            <a:avLst/>
          </a:prstGeom>
          <a:ln w="0">
            <a:noFill/>
          </a:ln>
        </p:spPr>
      </p:sp>
      <p:sp>
        <p:nvSpPr>
          <p:cNvPr id="7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B0EA8-978B-4025-9ED2-12B6C131FA5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502FA-7ADF-4B81-93ED-FD661E93343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2" name="PlaceHolder 1"/>
          <p:cNvSpPr>
            <a:spLocks noGrp="1"/>
          </p:cNvSpPr>
          <p:nvPr>
            <p:ph type="sldImg"/>
          </p:nvPr>
        </p:nvSpPr>
        <p:spPr>
          <a:xfrm>
            <a:off x="985680" y="741240"/>
            <a:ext cx="4886640" cy="3665520"/>
          </a:xfrm>
          <a:prstGeom prst="rect">
            <a:avLst/>
          </a:prstGeom>
          <a:ln w="0">
            <a:noFill/>
          </a:ln>
        </p:spPr>
      </p:sp>
      <p:sp>
        <p:nvSpPr>
          <p:cNvPr id="7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05B9A-BF46-4C95-8CDF-CD1F4C78CAB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CB9CE-0D8C-4D2A-9467-5D75C486B0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6" name="PlaceHolder 1"/>
          <p:cNvSpPr>
            <a:spLocks noGrp="1"/>
          </p:cNvSpPr>
          <p:nvPr>
            <p:ph type="sldImg"/>
          </p:nvPr>
        </p:nvSpPr>
        <p:spPr>
          <a:xfrm>
            <a:off x="985680" y="741240"/>
            <a:ext cx="4886640" cy="3665520"/>
          </a:xfrm>
          <a:prstGeom prst="rect">
            <a:avLst/>
          </a:prstGeom>
          <a:ln w="0">
            <a:noFill/>
          </a:ln>
        </p:spPr>
      </p:sp>
      <p:sp>
        <p:nvSpPr>
          <p:cNvPr id="7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B1BDA-EA72-4E6E-8229-92638B5F5F3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B1719-2A6C-4A50-BF06-2B44C2378FF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8" name="PlaceHolder 1"/>
          <p:cNvSpPr>
            <a:spLocks noGrp="1"/>
          </p:cNvSpPr>
          <p:nvPr>
            <p:ph type="sldImg"/>
          </p:nvPr>
        </p:nvSpPr>
        <p:spPr>
          <a:xfrm>
            <a:off x="985680" y="741240"/>
            <a:ext cx="4886640" cy="3665520"/>
          </a:xfrm>
          <a:prstGeom prst="rect">
            <a:avLst/>
          </a:prstGeom>
          <a:ln w="0">
            <a:noFill/>
          </a:ln>
        </p:spPr>
      </p:sp>
      <p:sp>
        <p:nvSpPr>
          <p:cNvPr id="70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23235-9F05-42DD-9FD6-B6D57ECBC52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3CF950-F634-44C6-891C-6AAC8919433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50" name="PlaceHolder 1"/>
          <p:cNvSpPr>
            <a:spLocks noGrp="1"/>
          </p:cNvSpPr>
          <p:nvPr>
            <p:ph type="sldImg"/>
          </p:nvPr>
        </p:nvSpPr>
        <p:spPr>
          <a:xfrm>
            <a:off x="985680" y="741240"/>
            <a:ext cx="4886640" cy="3665520"/>
          </a:xfrm>
          <a:prstGeom prst="rect">
            <a:avLst/>
          </a:prstGeom>
          <a:ln w="0">
            <a:noFill/>
          </a:ln>
        </p:spPr>
      </p:sp>
      <p:sp>
        <p:nvSpPr>
          <p:cNvPr id="7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26A75-F3DC-4B37-99CA-4EE160E37DD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BD89B-A486-4CEA-9E9F-E7301849DC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54" name="PlaceHolder 1"/>
          <p:cNvSpPr>
            <a:spLocks noGrp="1"/>
          </p:cNvSpPr>
          <p:nvPr>
            <p:ph type="sldImg"/>
          </p:nvPr>
        </p:nvSpPr>
        <p:spPr>
          <a:xfrm>
            <a:off x="985680" y="741240"/>
            <a:ext cx="4886640" cy="3665520"/>
          </a:xfrm>
          <a:prstGeom prst="rect">
            <a:avLst/>
          </a:prstGeom>
          <a:ln w="0">
            <a:noFill/>
          </a:ln>
        </p:spPr>
      </p:sp>
      <p:sp>
        <p:nvSpPr>
          <p:cNvPr id="7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91BB7A-F4CB-407F-8507-9634817934E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810F6-027F-44F7-B657-9315AF91C62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58" name="PlaceHolder 1"/>
          <p:cNvSpPr>
            <a:spLocks noGrp="1"/>
          </p:cNvSpPr>
          <p:nvPr>
            <p:ph type="sldImg"/>
          </p:nvPr>
        </p:nvSpPr>
        <p:spPr>
          <a:xfrm>
            <a:off x="985680" y="741240"/>
            <a:ext cx="4886640" cy="3665520"/>
          </a:xfrm>
          <a:prstGeom prst="rect">
            <a:avLst/>
          </a:prstGeom>
          <a:ln w="0">
            <a:noFill/>
          </a:ln>
        </p:spPr>
      </p:sp>
      <p:sp>
        <p:nvSpPr>
          <p:cNvPr id="7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BC052-C3D0-4B03-9D62-1A20BB48D3D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DB6B9-0AAC-4570-8EEA-31F6D849042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62" name="PlaceHolder 1"/>
          <p:cNvSpPr>
            <a:spLocks noGrp="1"/>
          </p:cNvSpPr>
          <p:nvPr>
            <p:ph type="sldImg"/>
          </p:nvPr>
        </p:nvSpPr>
        <p:spPr>
          <a:xfrm>
            <a:off x="985680" y="741240"/>
            <a:ext cx="4886640" cy="3665520"/>
          </a:xfrm>
          <a:prstGeom prst="rect">
            <a:avLst/>
          </a:prstGeom>
          <a:ln w="0">
            <a:noFill/>
          </a:ln>
        </p:spPr>
      </p:sp>
      <p:sp>
        <p:nvSpPr>
          <p:cNvPr id="7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8022C0-0081-4E5C-90B6-E38C6454F39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00673-3E64-4B4E-A1E1-5B2ACB5FE19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66" name="PlaceHolder 1"/>
          <p:cNvSpPr>
            <a:spLocks noGrp="1"/>
          </p:cNvSpPr>
          <p:nvPr>
            <p:ph type="sldImg"/>
          </p:nvPr>
        </p:nvSpPr>
        <p:spPr>
          <a:xfrm>
            <a:off x="985680" y="741240"/>
            <a:ext cx="4886640" cy="3665520"/>
          </a:xfrm>
          <a:prstGeom prst="rect">
            <a:avLst/>
          </a:prstGeom>
          <a:ln w="0">
            <a:noFill/>
          </a:ln>
        </p:spPr>
      </p:sp>
      <p:sp>
        <p:nvSpPr>
          <p:cNvPr id="7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970A8F-23EB-4872-BA90-2F705177084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479898-DAF5-4065-9CBB-7140C013DE3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70" name="PlaceHolder 1"/>
          <p:cNvSpPr>
            <a:spLocks noGrp="1"/>
          </p:cNvSpPr>
          <p:nvPr>
            <p:ph type="sldImg"/>
          </p:nvPr>
        </p:nvSpPr>
        <p:spPr>
          <a:xfrm>
            <a:off x="985680" y="741240"/>
            <a:ext cx="4886640" cy="3665520"/>
          </a:xfrm>
          <a:prstGeom prst="rect">
            <a:avLst/>
          </a:prstGeom>
          <a:ln w="0">
            <a:noFill/>
          </a:ln>
        </p:spPr>
      </p:sp>
      <p:sp>
        <p:nvSpPr>
          <p:cNvPr id="7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4010A4-F31B-42B2-85B0-E67AEC22521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73" name="PlaceHolder 1"/>
          <p:cNvSpPr>
            <a:spLocks noGrp="1"/>
          </p:cNvSpPr>
          <p:nvPr>
            <p:ph type="sldImg"/>
          </p:nvPr>
        </p:nvSpPr>
        <p:spPr>
          <a:xfrm>
            <a:off x="985680" y="733320"/>
            <a:ext cx="4886640" cy="3665520"/>
          </a:xfrm>
          <a:prstGeom prst="rect">
            <a:avLst/>
          </a:prstGeom>
          <a:ln w="0">
            <a:noFill/>
          </a:ln>
        </p:spPr>
      </p:sp>
      <p:sp>
        <p:nvSpPr>
          <p:cNvPr id="7374"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1FACF-F440-48C7-B34E-1FE8D720186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E02F9-C842-421B-BA27-57A098E0624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2" name="PlaceHolder 1"/>
          <p:cNvSpPr>
            <a:spLocks noGrp="1"/>
          </p:cNvSpPr>
          <p:nvPr>
            <p:ph type="sldImg"/>
          </p:nvPr>
        </p:nvSpPr>
        <p:spPr>
          <a:xfrm>
            <a:off x="985680" y="741240"/>
            <a:ext cx="4886640" cy="3665520"/>
          </a:xfrm>
          <a:prstGeom prst="rect">
            <a:avLst/>
          </a:prstGeom>
          <a:ln w="0">
            <a:noFill/>
          </a:ln>
        </p:spPr>
      </p:sp>
      <p:sp>
        <p:nvSpPr>
          <p:cNvPr id="71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B822B-EA6E-4A5D-90B6-0B74AAAC06F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A08E94-CCB1-47DB-9B9E-29162B46B51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6" name="PlaceHolder 1"/>
          <p:cNvSpPr>
            <a:spLocks noGrp="1"/>
          </p:cNvSpPr>
          <p:nvPr>
            <p:ph type="sldImg"/>
          </p:nvPr>
        </p:nvSpPr>
        <p:spPr>
          <a:xfrm>
            <a:off x="985680" y="741240"/>
            <a:ext cx="4886640" cy="3665520"/>
          </a:xfrm>
          <a:prstGeom prst="rect">
            <a:avLst/>
          </a:prstGeom>
          <a:ln w="0">
            <a:noFill/>
          </a:ln>
        </p:spPr>
      </p:sp>
      <p:sp>
        <p:nvSpPr>
          <p:cNvPr id="71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7ACF5C-7AF3-4782-B811-ECC79ECB8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CA8591B-BFB2-44F3-8959-E77A39C01C9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70FEA5F-0DE7-449E-86F3-D0C008927DCD}"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3B6949D9-8168-4D41-919B-00D14D910EC7}"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0F10644A-A939-4CA0-9CB6-EC03BB91B3D6}"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4413BD9E-A932-4405-83F1-6A209837FA19}"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409ECE7B-BAF8-44CD-B984-B7C1DDA6F36D}"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2F21D21F-9596-4BAA-A969-9F1C4355328A}"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31E02447-68B9-4342-97BC-36422C3121A4}"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A364AA0C-C421-48FE-A5AE-FB42062061DA}"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A97A3352-8E08-43D8-9307-C9CBD05A67A3}"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D12D24D4-FA91-46EE-9BC2-5351042EBD6C}"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C660AC22-B5E4-4B44-B216-3C5D0FC743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2FD539D6-B250-459D-927F-129A0A20C8A2}"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1773B0B7-E416-451B-8893-D7AD5FC05796}"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5454E2D2-712F-4ADB-9AE6-A36B541FDFEA}"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18D60741-2B8C-4621-8C21-58509102D14B}"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4ED8B026-64D8-4A39-8BD3-D7A86982E62E}"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8977A015-472E-4D56-A1F4-8489160FDA42}"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977ED7FD-81D4-4D25-9F1F-AA956B138954}"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1663DDA0-6A2F-4161-AB2F-ADEA60CB2D0F}"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5A9DB1EE-231F-4E91-BCC8-EFF10A4BD9FF}"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52831FA8-364D-404A-B237-24ABC2526B1E}"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F280F7BE-8E96-4547-80DD-E0C25F39164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96EFA0E0-C163-41C4-BD10-E995D9795CE9}"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786B8504-1745-46D1-8DCE-21BBD24ABA22}"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323606B7-31BC-4C6C-B26E-143D5B466A99}"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6B14819E-E797-484B-B9F6-1B4EF636C8CD}"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59819F78-8B17-4C85-91E0-76478441CA44}"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CAC3D71A-98EB-4034-9C6C-BDEBD46F2BFC}"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E10D2A2F-2749-4A06-867D-133D912B6FAF}"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1CB4222C-7B1A-4CDA-B8A3-C6CF63CE7453}"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B4B03E00-82BA-4A98-8E7F-FF29F989F455}"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CC0DC54F-00D1-4C32-9884-566B92883777}"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167DAAB7-09B3-4900-B962-44E5D66145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8D34DCD-2AE7-4DBA-B936-48999CE4A096}"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CC8FDF07-01F7-47C8-956D-4A5EDADE9B97}"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5AFEC087-4E25-4C37-830B-AB4925939F22}"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F099A514-D694-420E-882A-28F2B52ACF55}"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2AA53D1B-4E97-4390-85EC-82FBA250B3CB}"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036B3414-AAEF-472D-8D64-2DC2E1EEB2F6}"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BF264042-729C-4C54-BD91-01E1A207B0BF}"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FB0C4C21-2C84-4641-8484-92F35EA6CE37}"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D41A2EFF-64DA-48DD-B4D6-B5F7562F46F9}"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C85FE2F7-289C-453F-85F2-90F1A2F7C272}"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178605C1-BF54-4337-9A7C-3311BDABFA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7D46411-5B2A-426A-9495-E9FD65ED4D28}"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67FD6698-11B4-4B23-B8BE-48DA0D3CB40D}"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AACA7AE5-6473-4B21-AD3E-83A5A148D060}"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2474E5B9-BEAB-44D8-B5D4-916EE92932E8}"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43D699A7-C9CF-4F89-8C21-BC6B8421C81A}"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B5506375-399A-4645-88EF-0E60234D8296}"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CC4BB8B1-6E10-4A03-BF7F-0F18F3CAEDD5}"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91C4AC11-ED5B-4A5A-B4DF-B15D565A7090}"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95349861-A264-4361-9E56-5BDF66792DD5}"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9A922AC7-D960-4F7B-B961-8DA4BF467E25}"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BB669DF5-9E37-44A3-98C4-FA13D5C8F0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14BE838-CB17-4628-85C0-549352ECC823}"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4109B4E2-3FA9-44FD-99BF-72C351A8202B}"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748502B0-F9E1-4C9B-A114-9E36E319F5A1}"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C363764-18A7-4027-9A3B-9EA328589484}"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72302ABF-5606-4E15-A4A1-EA18DD1500B1}"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D485B381-3600-494C-B814-A87C2785462D}"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13237A3D-528D-4E74-B400-285A4C62B229}"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32A817AB-29EF-4A0F-BCBA-4B1492DAD071}"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82C91224-9BBA-44D7-94E8-4167DFEE270B}"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5355779B-BC42-49B5-924E-3B4CD2D8EBD8}"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BED26279-62E0-4153-9366-C4C075E1B5B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4157933-0C6A-4109-ABC7-AF43777C0888}"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A5EA4DEC-75AC-4C2A-9B69-429413FA5E43}"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FDB911D3-EA4B-474A-81DE-597405E95455}"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0127FA5F-AB8E-4966-9465-4437172B4043}"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6F63083F-8EAB-468B-A0E7-311E1BDADBE8}"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D3B4BA01-A9F8-4269-AB3A-E24592491BD6}"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D747B090-0250-4ECE-A9FE-775DE3B39DEA}"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9D42F45A-D012-40E4-8639-D5D1C60DEE79}"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A9602E3B-A3C3-4C04-9DBD-EA37F2777E77}"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677830BB-90EA-47A6-997E-9F2B5F47236D}"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3096C87F-3D0A-4EF9-9D26-B49ADA9DF9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DEF48F78-1A0E-4E4B-A2BD-1601A2A3F112}"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4CF21011-4039-47FB-8DBC-9308E828FE84}"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A738CCC3-FBFA-4E16-834E-0306B8459C5B}"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86C8A54C-742E-403C-8C34-31CAA6BC134F}"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C4568C11-858D-4762-9DDA-8870F76C7114}"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AA4059BE-47FC-4988-9DB5-E9722021C17B}"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C8D5E627-3910-4EC7-AD0F-EE1DF28F5455}"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98077466-99A4-436D-80CC-0B9DF801EB5C}"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5D53B018-4830-4D47-A3EF-1829CC1E7CD3}"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71F4D56A-E54A-42FB-B56B-BF60FA02DE13}"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77620E33-D439-4301-9BC4-512C51DB91E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730FDBB2-DD61-43F5-B589-8B82D01E49F2}"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26AFAD2C-1471-492B-9ECF-A6BFBC8DFB8F}"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9041D7BF-9364-416F-B34D-A30A7DDE91A9}"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2C11CB53-34FF-4A6A-9D87-A3AC5F777FC7}"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CE573AC0-D027-4AFF-8C8A-0BFCA49F4D87}"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24CA91CF-EC14-44D0-AB1F-B054AF76C74F}"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1C48FFD2-7B9C-4C66-AABF-092318758E6C}"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7094F69E-C93B-445D-B21B-CFB45FFBFFB1}"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9236D4F0-5033-4FEA-BC94-9F1A2A2FCD6A}"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D7E6198A-87D8-4D62-9768-5A61118B8D91}"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417657DF-F71A-45BA-8095-6877ABF2A09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73DC804-2BE0-4E82-B72C-5B2D9729FFA9}"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6D1A33E1-DDB4-4751-93E6-E4AD267F0F74}"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F0C8A920-9DC5-4B26-B597-667A7389D613}"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76DB46C3-81CE-447D-BC5B-C7E30B210A46}"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018CAB80-87D1-4DEB-A9D0-3A5029FE72E8}"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22F2B7FC-DAF9-469E-9779-FA6275883A5B}"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54DB5F24-2E36-486D-8EF9-2AF788C19552}"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8C3552E4-2CC9-4C08-8EF6-200C814FB7DA}"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32D2D12D-12B5-4E95-88C6-F2EB627AC16D}"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A1F0E62B-7A61-485E-B771-A935D3AFF398}"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6975C8BE-0EC7-4647-A6FE-7B6EF297CB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5C43224-4493-439E-9D55-A134AE40A0A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016AC9D-FB3C-4CF9-A9D2-50531927543C}"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7948026E-169F-4F75-8953-F757D8F018C9}"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0C1423E7-6595-4C9D-9BBC-6153AF5319AA}"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E835DB51-BB50-4061-B559-13F2C5E2DF90}"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E3F33438-2A77-42DC-8A0E-D7A9A4BFD684}"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2696E214-B7C0-4108-BBBD-152AE0FEA162}"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345BBCF9-C854-40FE-A0FB-231B25117A5C}"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0D4E9F59-7F77-49E6-B772-6FF7640D6250}"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E279FBF2-D77B-4588-B8A5-00CC33C8EC67}"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EB30990E-A51B-4C3A-9567-5E4CCF664129}"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BCC75D02-1994-4E15-AB25-57E60483ED0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F5C8F1F-83F5-4A67-A0EF-3623D897270D}"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6B3C13F7-6D61-4213-B68A-C059129DCB50}"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C649E6D1-8DE3-4F53-AB62-9D2578633437}"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A06781D9-508F-4C09-82B6-F87339DB7156}"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9C56EB0C-CF2E-4EAF-A5AF-70858AB152C6}"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85A4C2A3-08D4-42CD-A005-C2A9D166053D}"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785E121E-58A3-4465-9086-BFBBFF3C853F}"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96C30E23-BB30-4020-B86D-2E39F8C5194F}"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22B75251-9214-49F5-A5AE-9FECA71F4AB5}"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352D5E30-3534-4640-A482-49DB8F55C0CD}"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B55A31A8-D165-4574-8DDD-61F4AB30D52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0E05BDD-A2E1-417F-A890-E65ECD8CCB9D}"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44D0844B-A9E1-4760-AF16-6230D62F120E}"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B0B4AB59-992D-4905-9DCA-5B4C612DF9C6}"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02F2E44B-1A8F-4022-A93C-31EF88248568}"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5604862A-64E9-48F4-856D-6A9FEE557885}"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510C15EF-2209-44A9-BE5E-6DD39C6AA695}"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932F1BFA-C08E-4097-B91A-AF60D38CA978}"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7274F050-BB24-402C-8CAE-A22C3A788820}"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468210AE-7FF0-4C26-9186-B8960B216F37}"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7BD85210-DD69-472D-9754-8C1AB1CF0FAE}"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88C37863-049E-4DBE-AA5F-27CDB3BD1BD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C9CFD28E-CEB4-401C-BDF9-446BBCDF3B38}"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635167E8-F0D2-452A-A152-5E10F5FD4C5B}"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6F321D95-FEB7-4A1E-8DDC-A95D1C3B071D}"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CD34E1FD-E9D8-4673-B508-252652A4AE7F}"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DC1E0750-4648-4057-B007-5130BCF28893}"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B815224A-362F-4FC7-857B-30F8F3931324}"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23BFB7B1-5BBA-456D-95C3-1B726457D600}"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A539113F-F8EE-4287-86E8-6E6E2C9CC7DD}"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97183DE5-1BF6-4230-89E4-B4D6EB82BA51}"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F8C03D46-5336-4B9E-9081-8E3E9BD68818}"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7EB65F21-69E7-4CC9-A55B-AE349FC3F34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750FBAB0-132A-426B-AB5E-204F209DBAEF}"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E884FFF9-3997-4339-9478-FFF33CACDDD6}"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0A8F5536-0A8A-4B11-9E67-4B5AFF3C3880}"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AA607322-EC36-472D-83A2-78FE6E5B65CD}"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BD096057-35D9-4438-BF8F-8CD8EC988022}"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43D8CC35-19AD-4386-8575-D849A792B5CA}"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53A3497A-A68E-4A08-90AD-A8FC9CB1345E}"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C39673B2-3091-401B-8DF1-B3DF8634AABE}"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544264BE-5A9C-48FA-96F5-2FB3CC4C9E7D}"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319154C2-5B6A-4D53-9C1B-D5E91F054593}"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6EB68FFC-F50B-4FC6-9934-901C93CCF0D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59ED208-146C-4D2A-9DDD-980DC5FBE33F}"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E83E188E-657F-46B5-8FFA-9DE58B156BAF}"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2B3F3B0B-F8F1-4FC1-B8FC-518F39A64BF9}"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C3EC5654-F716-4274-88E3-4E7F94538067}"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FA50749E-3D4F-4124-B5B8-9FA953041D30}"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2F4D3509-7FB8-4CE1-BFFC-D49A51349EF4}"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9C0AEAF6-288F-4589-9230-FACD3BA41CF6}"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6341C1D6-864D-4305-8592-D5EC80F84194}"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D3234B54-70A9-438C-9A05-41AAF67CEF09}"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4EB9DCE0-D456-4EE5-9FDF-1CE8B21A9738}"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BD785AA9-8D6F-4C59-86AE-7DA6C907343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F9135E5-34A4-4FC9-9DBD-7733B88A7EEF}"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3C765CA8-6AEB-4EDC-89A0-6EA3358D6BE6}"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AFB316A5-27EA-405C-821C-FD4876AE1795}"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D486C18D-E348-42E0-B571-0C60C667D221}"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5F2750CE-D768-43F2-9087-AB8570AE4F06}"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292D83ED-5BE6-421A-8158-A77F9E787F85}"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CB0D8881-9530-4181-AC0F-3097A6BAA766}"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320F2AF9-1F16-4DF7-914B-A8897F423AB6}"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B75C4ED0-437B-4C6E-9D63-87D594AB1338}"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11959029-2D92-4AC0-847C-256220E08E68}"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FEA113D3-18E9-4C27-9285-04B17DFC58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4DF149B-5890-44CC-BFC6-C7C70D23426A}"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73B013DF-4557-4CB2-A11F-76D9388CC8A7}"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E8090B1C-BA76-4D1B-AEC8-DC2AAA4D4F69}"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06BD641A-FEEA-4B1B-9715-2F1A0926C373}"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E0038BAA-A5C3-475D-86EA-4C50188EF36B}"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D7348EAE-12D5-4C48-9552-B64E9E322726}"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C156F108-F0AB-4B3B-A263-4224E6422A76}"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9E2CA587-8E98-4A4C-807B-3220244CBCA0}"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B24A31C0-1C14-4877-A6F7-1BFAECC516D4}"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786738D4-A934-4630-AA5F-6660D0335C4C}"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8CC70C1F-303D-4CA7-9664-2123BD426AC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EBC1846-1702-44E4-98B3-8E96D722A595}"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01013D4F-7624-48C7-8DC6-6C4D29CC80DA}"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30BA69BF-FAB6-4317-9198-05BF58B7A830}"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89E8E9C9-DABA-4E76-B3EC-8FA703E25FBF}"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4CFD8CD6-CB94-463D-89B6-442EAC5AD0FF}"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6461D046-C1B7-4FD4-9F56-FD2E1C563FB0}"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7607E312-2284-41C9-BD40-104526A633BD}"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B5E6795C-C625-424A-AA87-6B79DD9B20A7}"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3B304B34-9748-4165-B0F2-15941637CEA7}"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08B62D80-BA7E-4ADE-96C7-B82EBE9085BF}"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65B38983-4B9F-4B61-BD69-051098C2C86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294F5890-DB06-4A78-B03E-4E667B255832}"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DD1D600A-7696-42D4-9EDD-F2BF87009474}"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1CB32A93-55FF-4436-97F6-1456C6B72A36}"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5FDEA2B4-0F04-4C93-85FD-EFDE63F7269C}"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03659C1E-2C54-44C8-AB54-A06846002708}"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A180D75A-8C47-4FCD-AF79-A9F8D1C762DA}"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118788B0-D5E0-4792-9AF1-7FF932AC61A8}"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1E1F466B-645E-4B23-A83F-EC1A75A806C9}"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ACC09D4-A09D-4225-B6E2-AF3EC87ED930}"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27C85A96-F3A8-4D95-A955-9C262B540F95}"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07451DB9-54C7-447B-8F23-1A77597670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5629EDB-34AD-496E-9573-1AA63D225C2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9902C0C6-6637-4C57-9518-3A7F72F98B81}"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6A4EE5EE-27E1-4A1C-9ED7-8181B0737925}"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4A476E0F-CE86-4A0A-9598-EAB311486BB4}"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07410CA9-66BB-4DBE-B23A-027087A56C28}"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98EC0B21-1CAB-4253-A3B2-99ABFFE7EEAA}"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45213C29-7502-4692-B071-878FA07462F4}"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C0911578-0892-4C35-B068-DDDC0F5F780D}"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2477E251-22EF-4D83-9D34-0B5E8F973BDB}"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1AB5388-2E5C-4AED-A239-EEB39AC077D9}"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BE8B7A6-8096-4C94-BCE5-083B7D914C90}"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F8CD528F-1C15-4C4D-8FDA-91D3C3F4A8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32B8536-A9A8-4548-A8F7-2CD59A793DC9}"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A9F2FA5E-E482-49C7-8E30-9E3468AE022E}"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254E0FD3-0962-4D6F-99ED-497F016337DE}"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7CDDD390-4D0B-4E2B-B821-C8FB0D247CCD}"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4C54818F-6B3F-462C-8893-970FC4AAE945}"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5014677F-0AB1-41CD-BAF6-82763673B525}"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FCDE9293-C4B7-46C4-910E-4C3A3B11DC8F}"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F86F179B-5F8E-44A2-8CD1-386124BFDC92}"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3EBEC0FB-186F-4C52-9699-B69CA5E43865}"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3697E33B-E603-4EBC-811F-B025E21951EC}"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F20FACC6-C6F2-4B6A-9A49-FDDFF054459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D3D9168D-2FC7-45E4-B00D-1482189B4CDD}"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B82482D6-8010-4682-A19E-D181CC125415}"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1151CCC1-1963-4105-873B-B1D74600F044}"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5A7AF7E8-FF34-4980-8C3F-ECD102DB144C}"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4AB201E6-8C5C-43CF-A2DD-879649F2B2D2}"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3F6A07F0-8CAA-4398-8EBF-FE23CA19DF7B}"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68560637-DB40-4291-963E-9FE84C9E162F}"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A25AD64D-F270-488D-A0D0-903A69138898}"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D5887461-D4F0-47C6-8F78-E1FEC2EB73ED}"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21193F45-84E3-4B21-B1A4-D11F16B81074}"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EB34932F-1162-4211-A3CE-2A84A5E3840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4A35209-A82D-4E7C-B351-518E88707CB3}"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9D36263B-E849-4007-9D76-C22010BD98C3}"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085C3B94-5D52-4108-BD95-AE8E386B4F74}"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4ED37A67-DDCB-456C-A7B1-50F0DA7614B9}"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60FDC7C2-59BE-4FE5-8F25-0DEE0D032351}"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9B5DB446-C8A0-41E1-8DF8-6B08944606D7}"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D776AC22-99C8-4637-9C41-88B602382D02}"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16284C08-83C5-470B-AB3D-09F95034D2AA}"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18B3E8FB-99FB-484A-A9E6-07AAD493EB9C}"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A3DECA7F-16ED-43D3-A2B8-F120A75CE63A}"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D8345B93-3997-4A82-A90F-F80BBFE6624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EFC18FA-DEED-44F4-9BF3-7C80C35DB217}"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7570DA74-4CFF-4153-9072-D7DAF32307B0}"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7D67B1A2-3C72-4E43-BED3-7FF40DB5C153}"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1FD4B498-C9B4-412F-9555-4C003E644679}"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193439F5-3D81-4061-BF96-311AA59B30A3}"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7AC6DA4A-018A-4A4A-AC00-EDE28023A348}"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D2F84A33-8E19-459B-B1E3-9138A2BA40B0}"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D2D7E06F-1216-4A0E-84E5-F18C159EC85E}"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73C86A5E-12F7-4D42-B767-654D28851C9B}"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3F768915-90E9-4455-8EEF-66537B340697}"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B7837AEE-3F53-4F0C-9E69-58223884586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262E6BA1-071E-41BB-9A8B-4D27C95FDEEA}"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605216F8-5226-480B-8238-B1365996AD01}"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3E78C046-F065-4273-AC06-DF1F7DDC2374}"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67A5337D-B9C6-4D55-8DED-3996176F4359}"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1FE8C6E7-DA06-4DA6-ACB7-126BEF4E8DA2}"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897C7D09-E31A-4610-A36B-79A9C5390E32}"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D33284A4-9CAF-4DDE-9F5F-4E83AFA13300}"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65932E5D-1F52-4D9D-B838-8D65819F5A75}"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A6F10F0D-D924-4A58-B900-94F4B01A228A}"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3E429427-FEE2-4F96-A37D-F6BEECD31BEE}"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91D2A0E5-00A0-4D41-8251-13271BCA62E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3632330A-B09D-4535-963D-99BA475E898F}"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05612E92-CF48-44E0-B552-867D71AF5BAA}"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B3A6B426-FA94-4C0B-B751-6B096763A085}"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1CC8153B-9EFA-45EC-A5C1-F5C57213D00D}"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68193362-DA45-4619-A355-FB2C9BE521DD}"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0A006FD1-CEA6-40DE-9E51-617C8BFE6A67}"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97B648F0-A796-43A1-B711-7329A59213B6}"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A55243A4-E54F-481E-8E8B-620E299E3762}"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1ECA81A6-68CE-403F-877C-675FC85238B4}"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9AF00409-82B4-448E-9E00-7A290182441F}"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C3332BF0-6789-416E-8AA2-5E42E2BF80C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E651D6A-2F01-4149-B97E-DF5E609C3A87}"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BA0EB18D-819D-4D04-A6B7-6A3276FD8481}"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286F6494-365C-4D9A-BF06-711C8F8E1D62}"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6F8504AD-680C-4D36-B729-A270C08B1534}"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D0CCDACD-BBC7-4CCA-A6CD-E71FFD2D4335}"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6AD5F4B6-DFE5-4B3E-9721-D7EA2A6FBADD}"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641DA980-1B0D-472A-A1AB-C009D84E9E80}"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1A63829E-3663-4EDB-8AC9-2A7B174265A7}"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D802C2B9-8A37-422B-B449-C6FF6A478E21}"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EE4A93D2-35A2-4A5A-B1A1-3EFD4DFA794F}"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1A1BA85A-11B1-4B59-BBC2-6C5D49ADFA7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53044BA-FB34-4A1E-885E-53DE18E98AF3}"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C7FC3AB9-27FE-4092-9237-10C45D0793A4}"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E78C7973-2E28-4566-8D51-264FF562155D}"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4585562B-3EF0-48E2-95D3-88D915FE79A0}"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166207CE-962B-4267-980B-736A468343BA}"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8215288E-9612-47A2-ABFA-A5711E3A3C75}"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EC0B5FDF-70F4-42E3-94C9-379C8F85798B}"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666DE22B-4383-427E-8F51-48777BCE770A}"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3E9FC973-2334-4C20-88DE-16A887101FD2}"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F92A5432-5A8D-40DD-AED9-A15598FF4FA9}"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52BC0961-FFA9-4521-9C0F-5286F0235E7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0EEA93E-4C84-4583-9308-F4ED7E67EB47}"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9254A3E3-130A-4172-BA31-D379C7290429}"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69DB13F6-8B8E-48FE-AFAB-2937A892B450}"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DF5E3FFD-271E-4318-A668-C19486A265C4}"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42CA9EA2-B3F9-460E-B90E-8BD83119A2AF}"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C344462F-EFFD-44AB-9E55-954D6A50AB30}"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F9091C1A-0DCE-4C29-9993-A3C5A6364893}"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A527DD96-B2E7-462B-8422-F6EFC054BDBB}"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93A8D7EA-5209-419B-A8E1-FA15BF0D4305}"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559A2763-CD45-4ADE-A53E-0C404E9A8BB2}"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4E27FB38-E1DD-4B6D-B707-651585AF4E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CEE359-F675-42AD-B1E6-387B735330D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3AA5147-EDA7-46E9-ACEF-1C1908B0C3E3}"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3C935725-4142-4F46-88E3-97B99AFFC068}"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F659DB7B-282C-49BE-9E79-ADFA2857EFD9}"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0368D383-4845-4945-9F05-0D2B049E61D9}"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299E4FA0-1FB8-421C-BF6A-2B417BB1CDA6}"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EAF0A3F3-81D1-464D-AEFC-962EEBBB1020}"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24B4D64D-6E1E-47D8-97A8-32D1215B43DB}"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7818C4B4-84CE-403A-8C97-B9E5B2C6BC65}"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EE4B8587-2056-41FF-BC7A-EA29171CF2AF}"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6BC627FF-2B89-40A0-8A7E-DDBC65ECC141}"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D3462A0E-130E-486C-B14B-C98010B92E9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4261C0B1-2CC4-4370-9F91-2E96E05341FF}"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B78F5B18-8A44-4C45-B067-90317A34D7BF}"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CCFEDF11-EA0B-4002-8FA6-642FC9F9377F}"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9F2A8D44-FC1E-45BE-9F9B-53C4CC26CCB5}"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1E3F4341-46C5-4078-9E75-DC5C9792398B}"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C12093EE-942C-44D1-ACDF-1BCA8DA44B73}"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21F6E997-919E-4E7C-8CA2-2F54985DF439}"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9A51E4D5-274F-451F-A62B-B023A4695B87}"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10E13AD3-9B34-49AC-9852-8C8723597F3C}"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B164BD21-F536-4414-BBE4-4B4A00ACF904}"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E0F3F016-9C8A-4E0C-AE59-F301255E9E0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2C9938C4-98A0-4D16-90AE-537B7FD61B04}"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F6E0B25B-BB80-447A-9518-829BE9A822A3}"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A102A63D-E1B4-480D-A99F-8C696C734B04}"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53130674-A44C-4F4D-AB68-683F67944DD3}"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E727FDA9-9D12-4C21-8060-77DB39793AE7}"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690DA732-2825-4469-BF6B-CC37008503C3}"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3D59061E-CEA6-4D6B-9FA9-7E585D634C17}"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EC398F5E-4BB4-4CE4-BB91-652F8C88E8B0}"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81CBD0AD-B9F6-4192-BC2E-89E1163435A5}"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B7DB2897-C911-4525-9369-A6FD492D3E21}"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569A8BAB-B043-4530-958C-FC99E1F5983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101FFA9-F206-4863-9061-CEA3B3E4F054}"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B3E5CA13-3626-48DE-9786-82126593589A}"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B0F7B52B-A4C2-48FF-984E-A0A2A3EAD124}"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518FDA8D-59A3-4232-89C9-9BFD87EBB208}"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3D488B0B-DF24-45B4-966B-872E04D803DF}"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3EB8DF81-AA4A-4407-919A-8B6F55A33036}"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4B519BF1-3838-4B27-9C39-414250FCF314}"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6F798E57-E3D7-49C2-A5F4-E98D263A3C89}"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BB9E1630-6DD9-4B56-B644-907D01EDED1B}"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2E2B9464-738E-4115-A497-479FE500A68E}"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2E32891C-8F26-4F17-80B9-138BFA62835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F50C122-E567-4027-BE4B-E3EA39016665}"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F3750409-8B7E-4FE6-A499-0806DBC4C545}"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C0FC60B3-9B70-4179-B57B-4EFAD24CC4A2}"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BFCACDC2-1176-4366-BE56-57089EF714B1}"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28C8007B-33EE-4F35-952C-132CB8B9D19F}"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E295D5D7-6068-4222-97C7-F7541DF82F41}"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C14DAE17-AB70-4700-9DE8-A8AB90707EDA}"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BA557AE6-3F2B-4545-9BC1-1159FE037870}"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DCD4890B-7759-4B16-B1EE-F58B9724971F}"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0B461A54-6D86-4575-8D30-CE5D0E8B68D7}"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B3A1DFBB-1680-42E4-9D16-04ED6EAC669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1854AFD-2E6F-4790-AD92-70D9577B4A72}"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F427C48F-296A-45F3-A5D0-A414AB45D5E6}"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8091DF64-0F16-4BD4-96CF-C1E2888AAF17}"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2CD03A69-9DC7-4D41-B2DC-3B26312EB880}"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51A26434-9344-4176-ACEE-6C3CD0FC7601}"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EF55B761-10E0-4816-9183-F5A33F052E63}"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492DC374-B354-4C0C-9EDC-BB8091C62033}"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7B184A54-78B9-4EEB-8B35-8C0415B639C5}"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D294E4CB-CCD8-47F6-B894-D8C7AFF98B0A}"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909429C6-5949-4492-9584-2FBFCAAD6FE1}"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4BAF139F-F89F-4C43-9774-A1FC8926123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5561120-7851-4D3C-BFD6-04E2A7647F71}"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4EA9D734-7379-426C-A7C5-E93EFC8D6FBC}"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FEBCEC82-A615-43CC-A333-3979FC564C91}"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E33D9AFB-3515-4057-B64D-0DFE985B5E96}"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6E0770FA-D234-4D4A-AB14-BF06A00F31A1}"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80E06ACA-FCDD-4E3B-93DA-B6DE5FC2F078}"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6EC2EBE6-31D2-4CE1-AC1E-1CA158AC3631}"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8406D2D1-1F80-4283-8BF2-2717E34D5039}"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641B16A7-1F51-40AB-9DD3-3E83860BD1DD}"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7F823D43-CAA2-4B97-A7F6-494642450B2C}"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990264DF-E907-4C91-9631-B654DE4B2C9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AF258EC-7011-4046-9E72-29827AFA3C1E}"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31257C08-50C9-4D2B-9543-B150A6B6AF1B}"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3CDE1FFC-540C-41B7-8BD7-AFD921D9053E}"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B10F390C-CC00-4917-B549-6BC3E195F243}"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EFB59551-DB15-4D7A-AD97-69FAC89CF3C9}"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4A993B62-0742-4BCE-BC1E-2CB7EDC86DAC}"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959E5181-CFFD-4B43-BE76-0A6BD45F4A44}"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427F4DF4-B9C0-455E-8BC0-11C6CFC9BD89}"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D26B4996-F0F6-4A00-A29C-5EEA1D52D42E}"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09D1AA81-D295-4E05-93DA-FC05278C39A8}"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290F9E52-A912-4A1E-93FC-A966CEC1E83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6F9489AE-F402-40F1-B8D8-EE689AF21325}"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8347D034-15C2-408A-A09A-2AE62FEB6264}"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D64F8837-9FD7-4638-9554-ACFFCFD55684}"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F44558B7-D5BF-40D0-ABA0-522844923125}"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5C1A7691-6CF3-4A38-8E5F-A574B716090F}"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01CA4B9C-9C5E-4F90-8686-F593EACCCDD2}"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747C3F48-3FDA-4F03-B7DD-F248D5ABEE82}"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C35987E2-6615-4352-BDD6-5FC921C11DEA}"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8FAF206D-C819-45DD-A988-DF657D6929CF}"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8853E168-0D5F-4019-8DB1-0A02C902F992}"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F47DC9EE-BC4F-4D46-B6BB-AFF7D267AAF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152FA15-11EA-4CBE-97EA-7A176F4574DF}"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736D2C20-B99A-4313-92A4-4C1A0CC394DB}"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DB9F5FF6-31FF-493A-BCCA-2FEDD3B94B02}"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33CBFCB9-80E3-47F7-B314-48602824C300}"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5A911690-D03A-439C-9194-4B56DECE84A1}"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E190425C-E2D9-456D-9C07-2B26D683B430}"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4BE97E9E-2CDE-4C2F-89A9-F16C96427DFC}"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AA342F29-58CA-45B5-9115-0666D0B0792C}"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EB9D9794-905C-479F-9539-90420D559819}"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FE745577-27C7-4A1B-AA91-A38E0D1FC155}"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7D9C633E-9CC4-4D03-A4D8-332877F258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F7B31E6-37D5-4D84-969F-F959CA64906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C3F1348-F75E-4098-AF94-87B051F75EAD}"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E7B72CB5-F353-47A4-9DF5-DA4FCE30E37E}"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74552108-CBB2-42FF-8A77-EB856D3B5D80}"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226949AF-551B-47A9-AC64-37AA1701AAB6}"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73D84F94-FC3D-42A5-928D-F97934C9C175}"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1E00E069-3AC4-4004-BA39-A7561B87BEEF}"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5A4686FF-2A55-4E95-BBFE-833EC669923E}"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B9BE7256-8368-4ABD-AC7C-1C3C9F152790}"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8AC02381-43FA-4078-9F5F-FBC773BD7469}"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96AD1546-5EBC-49F3-B128-55A46B7043E7}"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03DAC537-066C-4D19-B837-09024EADC51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EAC0FCB-015B-4BF4-8CE9-C7B5FDAB8B6C}"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06839AD0-4CE7-4939-A2A2-C7FADFD7049C}"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E06309B5-E297-48BE-9D28-4AAC162C06A0}"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6B77663D-AA4A-46F7-A160-A6BDC07973B9}"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739E1FE7-6CB6-46F4-A0ED-CDC6E3586447}"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65A71ACB-FA37-483C-903B-F3E49EE747A0}"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7A231C2F-CF06-402F-8F63-4EA9631BEA0E}"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749C7B0F-D2B2-4C8B-805F-B08C6F8A29E8}"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AA902122-3F13-4573-AD34-6058EEB8DAE9}"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C9B6771F-88BA-4498-B9EF-FB2E42117A08}"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4B33C6B8-7EDC-4A4A-ACBD-F4B821DE3EC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C05BAEC-2C6C-4783-94F4-15D3335E27FB}"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71657A9C-F4E8-4E6C-8038-A064D964E9F3}"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4424083A-6BE2-498E-8D04-7C074449027F}"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A5873A98-D577-49B2-90EE-A28ABB623F58}"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D119C9DC-601B-4ACC-A321-A64550B27E68}"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7626D19F-30D1-47FE-B99B-EB04D549A4AF}"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EE33B972-197D-4028-B068-C8C001504734}"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6847FB04-7C06-4A3F-A1BE-60E1CE31DF71}"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A8541171-472A-4B92-83DA-67CBDFC35DD2}"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335FB802-3B77-4989-8F66-152BA227733B}"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85D4FAF4-4C51-4812-946B-F2214AA4A0B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B3296C62-BF9A-4383-A7C0-BF75ABE0420E}"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25BCFB01-59E8-45AD-B36C-40028CF5CB6A}"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80948898-4ADF-49FF-AD97-23E12D44232D}"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384154C7-A35F-4FBA-9A0E-93B133FEE419}"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16989216-4A1B-4DBA-9AC5-683BFD0EBB45}"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3DC7E3B8-C260-48AC-ACE4-4D1B93D497B4}"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E1B42890-F276-4CC3-90CD-8C271E396D56}"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5B30A38F-3A4B-4125-AEE7-8E7762D7134D}"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FAD6EB88-C483-4BC2-9580-B1055BFF6248}"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A526E59A-4C4D-4F36-8A17-F95FC0DD61B9}"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18F69A67-C5DA-4716-9A32-33578F27BC8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CDC02499-B86D-4BD5-8FCD-BBE579A96BD5}"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9FA73A28-6868-4988-8750-24139E1BEA08}"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F1A11615-C354-4EA4-AE92-FF32AD1FC89E}"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F888F279-1720-4E0A-8D0D-0107067459C0}"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C98B14DD-D3B0-46EA-A997-4E9DB5E00E08}"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24BB6CA3-43BF-4560-8F1D-BB49E5AF7CC2}"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6870398E-D5B7-46A0-9DA5-191449EF9957}"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45F0FC9F-F222-4F26-A46A-FD7CA62D4F8A}"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4C314502-0B01-4EDD-9EDF-3BA4BB6634B8}"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24698FCD-A6C9-42FD-A09F-A5C3AFBAFE49}"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24CE7BB4-CD64-4C82-8693-E6D1A9270DC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1BB1AA6-AA46-4BB8-A3F1-3A653153F10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811B7D5B-25E3-48A9-B333-1560B20BFCC5}"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2FA2F1A3-901C-443A-9B31-AC1182D92F56}"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46D3BE80-408F-4F69-A71A-89746372F638}"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818DD8A6-8C03-4ADB-B283-35C071CE1BB5}"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67264464-ABB4-4FE5-9756-358EFA04A74B}"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33528165-4855-4F5A-974C-207E07D667B1}"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64EBC484-5009-4D15-823D-0D6946CA80CA}"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116427FE-EEEC-45D7-BC0A-F23AB8084030}"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F8EDFF30-68E2-4D02-978D-2C605E7F8504}"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189FBD18-FE26-4EF4-B410-12B5A5B92F3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6FCF608-68D9-4038-B735-25EAA5D92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5FA1E914-6380-4005-B123-97D8E7944BCC}"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946A1752-DF9A-49C9-889A-7BF06C777C9D}"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33922236-C1D6-4F0E-81E2-95C383D2DEE4}"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9FC40843-C1BA-481E-878F-6E3CF0219FAA}"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A3C65254-38D0-4A3E-807E-3693D8731832}"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A556D456-0253-492D-AA5E-78414A26EBC9}"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3CD02ED5-FF6B-459C-9011-F3641B8A2344}"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BD09B945-8FBD-4AEF-BDC3-344758F4D913}"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F3E525E8-3BEA-4D22-ACCB-1F1A4580D34F}"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4E24E100-A626-42D4-B55D-0A04833B572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94B9274-1E36-48B6-BCD3-DAC4BC4ED5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AD3D579C-D934-4FBF-BAA8-C024CD3ED628}"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F93A6D47-AF00-49E6-8A04-F5CE53C2326E}"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4EFB89A6-E61C-44DF-BE7A-CFD27AA942EE}"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EFBF1EBE-D810-45EF-B997-9712AFE7B207}"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408890D6-C388-410B-AFB9-3F3CE3E3244C}"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5DE85BFE-4E05-499D-AFDA-B8DB590AB421}"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EFE3F22D-94B3-4C1C-B39A-B032A65A987D}"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1A4BAB2A-74C0-4D81-ABD1-49EE95C96481}"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59A1F4D2-E69E-4513-8F77-23DB3BAD89E0}"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88922F00-9ABF-4E5E-B9CC-0C45EB71E4F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84D2231-0C25-4C8C-AB51-C3B656F559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E3E6331E-6D3C-416F-832F-C63446F4F593}"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F15FA389-5E6F-4999-81DE-0A1B9AFE7197}"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D1C10B70-AD5A-43C0-86A6-2F75C9F4E019}"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C7270E38-CD7C-469D-AF64-22813BD6A32D}"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478E2F9A-351F-4A3A-B950-E24BB7E086C1}"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265B0D19-A1F3-4A31-82FB-1591AA296588}"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F79FEA91-F735-4E42-8D90-5D9CD9D9FB63}"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475D6CF2-7A14-48C5-9DB7-11D33356DE18}"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C274C93D-9167-4962-9C1D-35F0D026FDE0}"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17B3974E-D57F-4BB1-BD35-5C709650CFB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C9E9CA3E-EB2B-4F7B-B269-09B3CC7395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5353405D-21DF-4542-B415-D07D8476F320}"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F169ABE1-3BE1-4884-919F-66797E34A131}"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D60A8D9A-4141-4561-AB2E-9F330814A899}"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D35EB96E-EA44-4EF4-91E2-542E21641694}"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0A403291-A293-4943-B2BE-A7CBF5304D48}"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D8551B45-B8BC-4702-966D-7168BDE36F02}"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76A969B9-31F4-4D70-9563-2EF397699FD6}"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BD22F523-7918-4F52-819E-B6DEFA908EA0}"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DF07A98A-2970-41AC-9E8D-131848F00D5D}"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E30391C0-03E2-4668-9294-79B9EB9085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BF3EB0D-5FEF-4D0B-B399-40798364192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932E30CE-F4DB-491E-809B-F715060481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7D3E006A-D8BA-4E48-9215-E2FE8654FDD4}"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F62581F9-9BA2-410E-8F43-17AE07B8DE01}"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D699B6F8-065A-4475-9CB5-5ABF14C15A7F}"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E7C7506F-6BD6-4AB7-A382-5C74C0838C57}"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F2B30290-924D-48D3-92AB-9B8A9FED458A}"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04594CC0-A54D-4852-AAFF-4ED1F03C319F}"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8E37ACD2-B704-4500-B032-683BCEF751C2}"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A8308757-D6B4-4D88-86ED-A8E027B247C5}"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4833FDBE-C3DE-496B-9616-B70F45BDEAB5}"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64644B8E-C34A-4CB8-9E34-C8F76070618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2213BB6-CCA5-4B45-A606-DA77A0E5DC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A4AB7488-2738-4C1D-93F2-B67602C978D5}"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0B440CE0-73D5-4A52-808F-054648C15154}"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A4383890-5577-4C6F-82DE-1CB8FCC52489}"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579D3D0E-B697-4737-987B-1FABA23BEF79}"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8F76403D-9D68-4851-B0D3-8CE13BDDFC1F}"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29D1C6F8-C02E-4360-90C9-A29FEC054137}"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A90BD1C9-6D1E-4CB9-B14C-A82FBFE67ED3}"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7B077290-E9F8-4C37-B678-F8CB55BBE14B}"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1527E71D-F7D6-4A9C-96EE-1250CD212BFA}"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4AF77A83-8F37-4F5C-9424-C5F9633B5FF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0A4C147-853E-4E66-B6A3-D3D0F1E4D4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DE0C0D83-EA08-4CBF-9F07-EAC190247EDA}"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447BC377-C00F-4A51-A007-868C269F64E6}"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3203FE0A-45D0-4DB5-A12A-BBD84F2B0022}"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B0817FD2-945D-454C-8235-B1A8BA716331}"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6FDF3666-577C-49BB-B387-1F398677ADF8}"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ADCBD05B-CE37-41DB-825D-B6A42744B616}"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0582A128-C5FA-423D-81C7-644F1F95471D}"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C1A344EC-00BE-4803-8716-9016F8653DA0}"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63C21657-34BD-4153-978E-61AE432FC65E}"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1E3E6335-9D10-44C2-A13A-6ABB3ECD211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2EB7A5C-E54D-4FEA-90D7-1D01550E6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F881629C-1230-4AC8-A8FD-B43E547D253D}"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67DB7AA7-C8B8-42BC-9039-E881E4CDA582}"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690840D8-8F5D-4753-9D3A-28E7F48D4097}"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CBC2DC21-1581-4586-AA1A-54DB676A427C}"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E226A954-808A-4C8B-A69E-5DA1B3B101F2}"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9BD3F7BD-5F28-44D9-956A-B5BADFFE1052}"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071A9C5B-0C31-439C-A9D5-67425EB98EDE}"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8E50BD87-D45D-44AE-B682-71B31D95C9BB}"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A698F8DE-8D28-498E-A1B2-A7C921A408A0}"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3CF586ED-3533-493B-9186-91E901A782E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59F3BB9-F614-4019-B490-C77732F18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C28EFF3C-C19F-4B88-A1E0-21C9418FBCD7}"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220BC17E-B0D5-482F-A195-BB8B713BABF1}"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A6BB52F0-A775-41D9-B480-8BCC8D3271DD}"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DE878DA0-4677-4F98-AE57-A1E10919055D}"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0A12AFEF-104B-4C3E-931C-56C08173A2D4}"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41762C46-55D8-47DB-8242-2BCC5B20A80B}"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911058F2-D1E4-4F3E-9C6B-E4214976C122}"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7AFEF682-FA71-4E5D-A79E-CBBE8CD66576}"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FAB16E62-535B-459B-823D-14AD6CE4F29B}"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7B90D358-47A2-4F75-931A-DD987A2BFEC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55EDC870-0240-470F-8582-43E8322D89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ABF99530-444C-48F2-87EA-2DC549F72F99}"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B867346F-327B-4CA7-82DE-313456379D72}"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55699CB3-B471-48FC-A427-87CD789DEF33}"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ABCC0DBC-39F8-4E2D-80A7-4647E52B41ED}"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FCF44A27-526F-4ADB-8BAC-D2D3767DFC91}"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CC7BB7B1-A287-45D7-9004-5922052DD85F}"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2C832694-F1AE-49BE-AD00-479FCED0D50B}"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FB3A9F26-DB6E-4C54-8E04-3512969CD4DC}"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7A6DAAE4-B40F-4F0A-B99D-1C8A003CE5E1}"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25885D70-410D-480D-AD39-3CA4A59CDC8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EBC832FF-B2BC-4E9A-98E8-0BD7271305A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142C7988-B75A-434E-92AC-78B43E043B75}"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7DE32BF0-4B6E-40B3-B0C9-6319F6FA0B91}"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50FCC80F-61E2-4D38-9184-6E1F1B440443}"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375A5637-5B98-4037-8ECF-7C55C5A02341}"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220E2A09-5177-4A3A-A275-4A2FF767598C}"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1269C4D1-AED1-408D-AFD5-24C87ECA8CEF}"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148C49B1-6547-4EC6-AB69-19E508EF8B19}"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D57A5824-7D00-4EE4-A78D-1BA7404146CC}"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7C2008ED-E3A8-4233-AB62-7D70124B6955}"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8EB95DA8-56F1-4DCC-A6AB-31FC5582C8B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3F57BEF-16CB-4E7C-ADEF-F758C6E85A91}"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2C564757-3C3D-4392-B75C-B0F4D04EC180}"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7543591F-B5FF-4F76-952F-E39ED6071684}"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588EBD27-0320-47EF-91C2-18A17179E0EF}"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C6EA17C2-ED85-4662-AA83-D7487AC26AFD}"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24D894ED-B34B-466B-9136-7BDFD4768973}"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F05F8C8C-2AE5-490D-9E47-4267847522B0}"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A71C5E4F-FCA8-4CD3-92AC-31DA32FB0998}"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738A0634-2692-4DAF-832A-768391FDDEE5}"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A4021DAE-4036-4900-B953-7972F834B99A}"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7D923BC1-B5A0-4322-A887-461C31D9CD8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58628282-945E-481C-AC60-2E5E79150C15}"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3CBA59CC-2D68-41BF-B793-655DE3335F39}"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B1D7461F-3084-4103-8BF6-7C26F9A53A57}"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36F18937-7D08-4E80-A428-1DEF33F6A325}"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981B2D42-9BF3-4C8F-AB50-E42465DE2411}"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249BBA96-C5A8-421B-82EC-D760F1C49F65}"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201ADFBD-EF74-461A-851A-49285452FF4C}"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27F0D898-365F-40E1-AD62-80524436A06D}"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D4E1B3D3-D1FF-4E0C-B131-BB7D602FCEB1}"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EEB4BA3D-72FA-4A70-A5A5-76A6763F3313}"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D3CF901A-1C16-4455-B46A-C65969EAABB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7BB36BEC-101A-419B-AA92-EBE98211090B}"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1B3E0972-16FC-4C34-93F7-0C8BBBCAB68A}"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82238DA7-C7BC-4462-9959-372344C59A4B}"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B97A5D63-6E14-4E40-B3E9-FAD0A91121DA}"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7FF32B0D-E43B-4F1D-B407-3B679EE77DC2}"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2663AA23-E44E-481E-B88E-459BFBD09387}"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31141D65-4A54-4DB3-825C-C60F120B3C29}"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78BA122C-BE7D-4D42-83F7-52221DE0488B}"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C1C88ECE-9B10-491C-B406-787D7F6086C1}"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F491257B-CC52-4C92-88D7-81D7F9C1E870}"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36EC42CF-9AB2-448C-86A0-4252ED4340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B793835-0425-4439-8092-9AAC50E60CE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9FAA452A-364F-4E40-8123-E7BD4BAD10B6}"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37F438E1-EB8B-4218-B888-5C15078F43BA}"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61EB0811-9894-481E-B59B-80C04F8233D0}"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A681A011-BB14-487A-8E2E-8D926C924A3C}"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77A7DE24-782C-44FC-A33C-32FE88431561}"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4A5B26A0-5639-495C-BF40-EF0AF497085D}"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E241EE87-2944-4733-82A1-EF39E9546367}"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65B4725B-4A8D-4F3C-9F73-55C1EC86AE96}"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1BF4828E-8242-4C02-B401-0D8AD32794D0}"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A2624444-8FA2-456A-B041-8F34D5C7BFD5}"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9EF72AFD-C466-47AA-8EDE-1BF00FE54AC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549F236F-98FA-42AD-8017-03A81EA007DB}"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F68B4A29-B44B-451C-BDF5-33AB82B7441B}"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DF45A83C-C1D5-40AC-9859-7FB4C4614419}"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79A18A93-650B-447C-8010-F93DB6677138}"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83555980-E0EA-4025-B7AF-D686C38AFC71}"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6A5B178C-0CC6-41BA-9C87-432CA1E9DF4B}"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112F4CE9-E18C-41A0-8800-ACBCBDEB3666}"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F60A53F6-CF36-40A6-A992-A2A8023B06C7}"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29635CB5-9BE1-45E3-9B45-24179F6F69A4}"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10C7FCB8-8714-49AE-8AE1-11A26EBF38EC}"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578813CD-6671-4952-8579-6F4C777F17A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48409632-0F7F-4CA1-9080-975429A362ED}"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92697A5D-F8AB-4012-92F2-CF1E6D438862}"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F6F71B86-B978-4EE8-91D4-F4AF9C97F521}"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91395F18-6623-4170-B9C9-2A3389E30DDD}"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9DE6FD05-49D4-4173-BDEB-5F0FA42B65CD}"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2EB812C9-84A9-432E-B5BE-8FA9F6AFB5A1}"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5DB17035-E884-49E9-982E-2858A2D386C8}"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2BFD7202-5047-4BC1-9BC4-960D553D1B9F}"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DFC00C31-7B4D-4087-94C3-A2361E2460A1}"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F05DC8FE-464A-404D-AB72-4D4D3AC0A4FA}"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339C5E02-C1B6-4BB3-A1D2-CFEE7AF8506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5E398A85-1B42-498C-B5FD-5E5CFDDE8F7C}"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9D3BD20D-FBBE-42A1-91CF-66C4BD976DC3}"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74237033-5A65-4213-9BEC-FBC32CDFEA48}"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6C0047D1-CEA9-4667-AE5D-08D95A98AFD4}"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B1620AAC-2F01-48F3-BAFE-6438E0B231D9}"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16A3B33A-B817-4603-9AEA-47906EBE07EB}"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79B816AD-BB48-4A8A-89B2-CF692036C197}"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D2F6F83D-8F34-43C0-9C19-ABF59218FFE6}"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3993A9B6-B541-4239-BF37-37265BE12563}"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97AAE190-C994-4DC4-879B-A55D903DAC7D}"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346FFDCA-1AA5-497C-9393-A2CD1584930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B6E3EAC-4D3A-4DD5-BD2D-0C4107CA4D30}"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66A61CE3-C44C-4006-BC01-DCA70F3930CE}"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220CDA69-F212-45AE-9FD5-DEF896FEA608}"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F8895E49-FCA3-4D1F-A0EF-58E265B524E4}"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4141A5BE-A923-4FC8-920A-C78EB06981EB}"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494C801C-3F82-4BDA-B9D3-3DC6B4FF650E}"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654FDDC8-1000-4473-A5F1-121CC9728DD4}"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6BE25AB5-AD9D-4BCF-9918-6CA2DD606CBB}"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5BF6EC2D-EAC2-425E-8C87-E403C8DD156B}"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B6C5DAD0-1B7E-4BE1-A8CC-75406A1D912D}"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8EB65ACA-410B-4F5A-83AA-2249CB33914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2824C9F-0104-44F2-A254-0A2617F5EE54}"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0B503C29-F53C-4ECA-9EDD-402DFDFD81E2}"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D41AC9E4-FCD9-4578-AA5B-3B3BCEC6C61F}"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31BD8717-3957-449C-BBCA-FFF311CDB914}"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37F9A2CC-F454-4856-991F-8F9A0F7F66F6}"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A8433F12-B7F8-4C4D-9004-BE3BEA4DA167}"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13FE4F2A-3F3D-4525-9BF5-AE22B5F7AC83}"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2475893B-6A8E-46FE-B963-1B282E61EB22}"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1F0156DC-20E6-4662-8594-AA365A411A3C}"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DC67F0E8-4C84-48EF-A9D0-4DF78760596A}"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7BC86367-2611-4680-B0F4-1425904F0D2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57662ACC-20C3-41EC-9755-933BAC7A7DFF}"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006BA192-7475-4078-A0C5-28E66D08B571}"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9C63E325-723E-4EF0-B3AA-3E13EE60C72F}"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EE497439-26E3-4822-947B-784347FD3C86}"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6383E9F9-D9D5-4730-B89E-9F34E29E1E09}"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3C5FAFDC-554B-4692-81EE-F69D33C3D74A}"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DDE735A5-0A9E-4CDE-99C5-755642B740EB}"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DEC7D91D-3011-4D76-99D6-13BCA209635B}"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05818F10-B387-41CB-8639-662D2C42BB35}"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E4D8232F-05A9-429D-B1A3-8C8E7A347867}"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BD47BCFD-B070-4997-9034-DA77B285969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FEF2CE5B-7A95-40CE-BA07-187E669A98FB}"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C509D25B-AB11-4120-8B08-97F8DE8C3E59}"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70099025-4AFA-4DCF-9F80-7A8C6EEC065B}"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8A81213E-5939-4F27-A911-A507F37DA476}"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FD8AAA11-E910-4A4C-AAD0-1339344777AE}"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8F84D49E-70D1-4D5B-BC5C-A0EB307CB741}"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578B81E3-380D-4AEE-B7B3-AFD67E6DE58D}"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9CDB5E48-5C67-4B12-9AE0-A73EC0C75C98}"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B3B7A83A-1D7C-422C-B560-09262DDED03B}"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FE3207B3-B862-46E3-8366-5FA41BF61A4A}"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35638ACE-F1A2-43F0-B8FF-1D6495075C1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7B907701-79A5-488C-BC68-D54E9818CDE7}"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5DF1E64F-02B7-4C56-8162-DC2ACC2D5265}"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767089B0-1185-424F-907D-AE65447C0C6D}"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F4202D0E-7760-4EB3-9A76-6E6D4E9E7408}"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EE27DFB4-2ACD-495C-8AA0-67FEF6E829E7}"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DB3DB677-E641-4A63-8ABD-E3746AFBDB25}"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AF9BFA4F-EA54-4127-BEA9-CC1FC52584F2}"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4CFDFC1B-A054-4462-A91B-67565C62970E}"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9315EF94-4476-43CD-A5C8-97F5DA7FBB76}"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34DCBE41-EAD8-4318-9BDC-A6BE093D0BA1}"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D32FE085-2943-4FD6-BEDC-18E287CAFFE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1BAEBD0-AA7E-43C4-855B-A697C188FDC7}"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0145748C-95C9-4094-9ABF-F91AB05B1F76}"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45684734-F1D8-413D-B5B6-0F47FB695D7E}"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412F35DC-90C3-4E41-92AA-679B55491B0B}"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36C4C4B5-40D1-4ACC-933F-2F830ADEBF94}"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8725B609-3EFF-467D-A0D7-98BF41CD802D}"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D93C203B-E189-4203-B394-0DC7E09E9764}"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0C7E5788-0086-4CE2-B729-182DE5458C5D}"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B5611765-3655-4D36-B0C0-52951251DBDB}"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F0AC9469-242F-4DA3-8986-3A08B153514D}"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66F1D1A5-DAD7-48D3-A0B3-D470D8093E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048793E-E755-4E43-8B3A-0C6A31F3C0E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F0EB24D8-C8A0-4756-9B53-19B0FB669040}"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330AA290-6986-427E-8530-68E800F00E0E}"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608C0CED-1BF8-48F0-A2A1-87AED97C2FE4}"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35865192-1379-483C-AD8B-DC6E998B45C7}"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62B1DA2A-28F0-48F2-BF48-37E07BDBA450}"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7F966292-9D24-4812-8B51-D81093154E1C}"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525DB05E-168E-4731-A50C-65C33CD376D4}"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98FA426E-DCCF-4058-82BF-60541F61CCEB}"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D4B94F86-4D6B-4263-9EDC-178DF6956485}"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CB89E082-A7D6-4930-9773-0E62D29B553C}"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19A7E665-3C68-467A-AA36-503A48EB8D4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991C3B8C-E2D7-44C9-B00E-B213B0436755}"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3AD9AF3E-77EE-4B78-AA7B-E0F43C9A33E7}"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84DFB877-D5AF-4C56-A93C-76553E57CD8D}"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FFE67C17-991A-4367-A32F-C719ABA5E1E3}"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D7EC09C8-B932-4912-BCE3-DCD06E28DD98}"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676C508D-7D8A-47E1-878C-4B1C40E16586}"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E5F5BC55-4B53-4CC7-8528-0FF8D337C613}"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85B6F5E0-6BC8-4AE5-B989-6FD843346941}"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44E478C0-C94E-4640-9962-A394CA1AE48D}"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82838B9C-1E87-452D-914A-0946B363C81A}"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35901170-403A-419B-8F1D-41B70C21A27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C1D8A016-3CCB-4E60-A86D-CF222E628363}"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E789114B-7EA1-4254-AFE5-5B74961FA21C}"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2B93DE47-65BB-4752-9D76-276E6C2E3D00}"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C186FEF8-58F6-4301-8688-17A1B403F1AA}"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87134CA7-BFFC-472B-B80E-85D34165E342}"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70DD80E6-A19F-42C2-B23E-6EEA04C82B7F}"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A196F552-0B8B-4D99-92C0-5F63F817D08D}"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353B643A-226C-4F50-BA4A-A128BB9C16B0}"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A5288C31-D369-4696-A5DC-097CF57B8289}"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4F0EBD95-B837-4B37-B62B-F1C2FD8D98AE}"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1FCD5A25-FAE6-4B7D-9E3F-49D7BB20326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0CD3AD93-11FF-4ABF-A332-C52A64C3848D}"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0FAE9D2A-4A1A-4700-8F7F-4B3896B8CF36}"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7D81F62F-6084-4295-840B-61C6702A931D}"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677AEC15-2709-43E2-B6A7-97542BA02D70}"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78AA90F0-A19F-4D3B-BC88-BD3C4B9C1DE5}"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BD7EB2ED-517F-4486-81A2-6CFD00D58D4F}"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820B6F2B-2D3B-4C5B-A322-958AF58D132A}"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3D4E8C27-BCD4-4AB9-B4B5-B46C495B04B7}"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5E396F14-CD72-4C25-B05A-EBC5B1B2288A}"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36DE733A-991B-40E7-95CB-B5F3A3C36C56}"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04838E3B-8658-4F4A-A8B6-A641AD77DA5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005C1FC0-E280-42FD-B30A-44277584DD30}"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3F7DC434-1059-4454-9A64-94249ED4965C}"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B3F8976B-1970-4319-8B2A-76115777FD20}"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4790C407-B27B-4D64-9656-A29A4C828C76}"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A4F53ED7-0DA4-48E5-9590-BB2032BA51D5}"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07CF076F-A6FA-4E14-9658-2E605CEBFE6E}"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175E8E32-80F5-4BEF-A859-711C992FCC5C}"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CDC00111-D4DD-415B-9A86-7A06F49FE65E}"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E1D914D7-4645-47CE-93D0-A95F3E1B752C}"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E17F1D8F-1FFB-4BA6-9BDE-5D949D9EE06E}"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1BD86A55-56FE-4937-8195-A69BD1474EEF}"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6128B80C-59C7-401A-9538-E8523AA57772}"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226684EA-266D-4E53-9375-65E87B77C70C}"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02F72F16-B892-4190-944B-DB509B828D07}"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411798AB-266A-43AF-8D80-3EB4FD5DB9DD}"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202B60F3-2CDB-4494-95F9-A90F39725D69}"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43E7B5A7-BF82-43D9-B149-9AFB31A40ABF}"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F90771FA-64BE-42E7-9998-D367EABBA302}"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D738D0EF-AA98-4DBD-9ABE-DB0DA28216FE}"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BCE742C2-172E-4C37-81CD-B2D1EF8C4AC8}"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9E78C5EF-0CC6-4754-881C-7D7F8F6819BF}"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80FE22EA-D09D-4D2E-8BA2-603262E5CC6C}"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50045FA5-2E78-4F6B-9604-74B89690B2A2}"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00AEA268-5DB7-48DF-A236-5963FE624AB5}"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1681718D-94F1-4F2F-A626-AADCBE3FECD8}"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5796DF22-0151-4282-AA14-7541B262EFE4}"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2ECD5D42-30C9-4652-AFE9-0822AD725CEB}"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32645AB8-6AC3-4B95-990C-91113314D602}"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087A052F-D753-4F1A-9196-EEDC58A99E9A}"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6CAF676A-B1C9-4DF4-8F39-06617C580D43}"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9AA57440-0158-41D5-BE6C-85D2791CDBD2}"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0A8A24E4-4096-45C7-9312-6C48C880572A}"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A078F7B6-0D4A-4522-994F-F86D272AF06B}"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31823DD8-F362-4887-A0D6-1C6058BBB378}"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61F97D55-63B3-4E75-822E-16CC5B73239B}"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BC3CC023-B54B-4034-B1B8-29C22594860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845196D0-88D3-47CE-8D7D-540BD050904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303F4408-6257-4AE0-8C85-D239179C330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C4A8B239-A9B1-47EF-894F-0216153941B7}"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936AFC75-A209-429C-BB2D-39B4F580FDB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ACB93263-F046-49FE-B112-BC5EBBAC2CBE}"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7917ECBE-B377-44F0-BA63-EEAB75F27044}"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3FB75688-3628-4381-87C6-7A8C902F6795}"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BF4A1C87-3389-4255-AAC9-2005393053C9}"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2D2D4E40-0474-4D86-AAB4-8F03566F9028}"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A94E2D29-F42C-4D0D-9B40-991DF4BA0C14}"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4BAF812B-AA4D-4A98-9372-0D16A0385E05}"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5989E93E-4398-48E6-97D1-88C5BA5669DB}"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5B430251-8095-42B6-B54A-554117B0A28D}"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9186D699-2593-47F0-AA6C-D1CF4B03A740}"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52A86926-24A2-4A99-8DAC-59B4D74F3D3D}"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38C49C47-323F-4A34-911B-4229344B64AE}"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28A9BC38-F823-4102-ADD1-B2BEC62F5515}"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5D7FE474-B67D-4B3D-95D6-DF281A997C8E}"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6632AD67-A105-4ACA-8194-EA497AC76C72}"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72C367F8-8087-40FE-AE85-1834D712E708}"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3F1B7329-F5AA-424B-A30B-A530F5B51119}"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7D8AEC64-D6A8-4AFC-93DD-661464469E26}"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6889E800-D264-4DEF-A395-392501094CFA}"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07879452-EDB6-47E2-B3D0-2513413A9AC6}"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444E9E53-5E5A-4409-825D-D4BE484C6876}"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4E3B4337-159B-4DB6-B2CA-323BE2025F3D}"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8DC04BAB-0A75-47F5-BAB2-B55C618622BE}"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4F0EC286-8842-48E6-ABAB-280DED33F020}"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E2B9764D-518A-411C-9FFA-F9FAC9C40ED8}"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4DEB2576-8E0B-4B57-B863-B609A0215FAD}"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9E05F7A-1E28-401B-8D23-7C9618C9DBD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D2B877F4-7C53-4550-A5AB-4A52BDEC536A}"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9E3AD874-5B54-40B0-8D1F-82A984B3A71A}"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4380DE8C-FE77-4A37-9920-972EE5C56F2F}"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2D04A78F-7202-4F2E-A155-22CF73E4AEF2}"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E29CABB6-ACED-4F50-B1B0-6C7E91774CF5}"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0CECA8EF-1448-4DD1-A71E-C08C8B16A9C9}"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C16B4BE2-A82B-417C-8275-1AB4318F2415}"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8B8FA8B7-2C41-4815-8ED3-1521A4BFEB47}"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F2397458-9F48-417B-BA43-EE967F28245A}"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218C6B10-77E7-4F97-B8F4-BA3C13AD4D5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1E011C0D-DEF1-422D-B296-8C4C7B66343B}"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4AE7AAA-C628-4F9C-A3FE-C0386094119C}"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1D61C09E-AF5E-487C-9F3F-85EF9B7C446E}"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9FA20572-F6DD-4BB6-9CB1-E2669E244494}"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A0402DB9-A2C0-45C1-A29F-D40ED1ABA519}"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BABE4223-23D5-465A-A39E-ED6DFC9B289F}"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5C8CD7A9-25C6-41ED-A4E0-6F324CA8F71C}"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11CB0ABC-99C2-42BD-B450-81F450400E02}"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257B2C9B-E77B-4870-9860-E4D16266ED17}"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ECF6BF45-B829-4397-972E-93C4A76A6AAD}"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D25C5EED-95AD-40B2-96D8-C96B4BCF5F58}"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B6EE6E5D-A330-4515-A9FE-ADC5963A9FAD}"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B795C054-7ECB-4ACE-8B0F-463470B1EDBF}"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57D96CFB-04F4-4B3C-B5E9-95728C59DF09}"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26E7D512-0575-411E-AACB-3379BDE81094}"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9CE5DB17-021A-455A-A61E-BDD035A671F4}"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E479553F-F49D-4732-B682-AF2568EF4E3B}"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77CD81C4-9F1B-4740-8B7A-3EFF6B309B5F}"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5D65174D-0E03-4589-A78A-DD74D7873A60}"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EDB5D52F-3259-47B2-B407-A41D76EEC39A}"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0BBB4607-2BDC-45CE-9444-4C3A1C9364AD}"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8D265544-7672-4B06-9608-AD791174B8C9}"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2971C189-2F44-4A17-BD4F-3848EB0AC230}"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5A982ECE-64B2-48E5-A6D5-419683A00DA0}"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F4F4F8A1-22E2-4127-BAAE-216B0F3A0932}"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A11A8872-747D-413B-9101-0C58BFE1CD7B}"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D972479D-E9F5-4028-A70F-871521FB0A06}"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A60E0609-E92F-4B01-8ACD-F1117DF31DBB}"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CAF69918-E71E-42CB-98F1-E9F6B3252D93}"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56FCCFDD-E926-4703-8385-36E6C64A2C2D}"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10F8F9D3-5D57-4D70-A6FD-53A2AA39B0A7}"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6A1B96DB-8A62-4FA1-BE7B-516E7DDD8DF5}"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4931C07D-6535-47C8-80DD-839C68CECCFB}"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EB53161F-BFBF-4AC1-9C2D-32157C41F732}"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5092AB1B-939C-44B6-9867-C56D9D84228C}"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A16AEEDD-606C-42AC-9CD7-2FF8D9F11E39}"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4D69AF5B-D387-4425-A94C-CD573BB31421}"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8BF5A6A8-F4F4-4BB7-B78C-D4A0971E6A9B}"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15552E78-437F-40C4-B652-99BEC666677A}"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A370711C-AFB7-40EA-B002-03F2BFFCF7AB}"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3A0F228A-0883-428B-B6EB-DAFDBF14240B}"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3E092ADD-762B-4D49-AF4B-5D81EC32A4F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621B377A-2CA4-468C-9BC3-8ABFFEC3588B}"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EB6A7266-A18B-4DC8-ACF2-98E44CD12375}"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D03326A0-7E76-43BD-90EE-DC0CD44BCA21}"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3B1B49E5-8CED-4991-A1AB-6207E0F68788}"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B81168C9-29E5-4E0C-AE94-F73312E35814}"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117422C5-27AF-4B14-8DBF-9C7977AF4326}"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4CA0EB37-DAE4-4CE6-82B9-5B7CC61C4144}"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CB64E557-99C5-4752-83F7-A4B965A279F1}"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92694BC3-1CD5-4C5C-A093-C461C61563FF}"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59D08DDD-C7B5-4691-A473-9AF120088DB5}"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649C9BB5-A508-408B-9F63-521FD22FE303}"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B27ED110-DBBD-4847-BAEB-22F8D1C84849}"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D8A1DB1C-AE52-4705-9C05-4ED9E58B073E}"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EDE82857-434E-471B-AD3C-1A641A96A062}"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9E81B10D-9BE8-4AE8-B8A6-CBD2572E1B41}"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F553CD9A-B6CA-4B66-91E6-E9E53E433264}"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3AAC1ED7-59C5-4C1A-9A47-004866F8E9DF}"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57DD4AA7-F712-40F6-B636-9ADAEAB409B2}"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A173560D-6655-4EA2-B896-B09A4AD9E3FE}"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C1223C1D-B157-42AA-B303-D596A1B7CA50}"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5A7937E7-6995-411D-951A-355CBC35C924}"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6A1F1B98-0C99-463E-B950-970B1470CB74}"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7EA2CE33-7A00-45E5-A66C-51C75EBC51D5}"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98D34719-5E87-4C05-B318-9084C7AAF53C}"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22393EF2-85A6-431F-ADC3-5FD0AC1EC11B}"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557FB9D6-5539-4B36-A324-5F445F487B8F}"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56870F33-CF9B-4C9E-B860-F629CAA30AD7}"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9F9989ED-B1DB-40E8-BF99-2960F92CDA23}"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C70A9AFA-5807-4FA3-8D91-3DBF7037399D}"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96AC5769-C452-4ECE-BE45-5B3C7B8D7DC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FC47859B-74EA-4CC2-AF20-02B222CA6F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15CC128-B54E-40F7-B3E1-E3DB03BCBAE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87B0B9AD-FE14-4059-AF8F-D8F9FF32200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607CC785-D099-4A3E-897D-AAC7C17E46B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47261E65-69AD-482C-BF8A-1F899B156DA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B09A9E1-06E4-403F-B1E4-811314E0DA3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8AA4C213-DB53-41F0-A674-A9C9E958CB7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F0264569-76D8-45D1-A25E-422E00F5449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9A28D0BF-9E15-4E54-9922-D3F0E2EDD6C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B5634A3D-051E-4F10-BA52-51E281274F4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89EB7A70-7EB2-4A7D-89B7-7444AD6BE7D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14B4EEA0-82C6-4A00-AE0B-5DDAA813F2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604C47D-9E3A-4F09-8A29-4BACA49C47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222D3AC-1321-465B-AEEF-310AFED2541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84DF0820-01B8-4ECF-B9A2-799684B0702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878B989B-3919-43D3-8D38-A42855A20FA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AE49FCAA-4345-421B-8753-1E132CC4B75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8B78B6A9-C7D2-4BDE-B511-D7A884CADFA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50591003-5EE1-4749-916B-F37865693AC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CD22731-083C-4029-8B39-CA5851B62B8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64B1EB72-9D57-48E0-9A82-195093A850C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F422F40-2C62-41F4-8463-E11DCAD2370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233EF10D-EDAD-4C57-A945-2B38A9A9431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F10CE9ED-61BE-4E88-B191-1B96931060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EA35B88-EAEB-4327-A09B-7654EE82E14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8599EEF8-02DD-4F82-9194-7D8BE5849F3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01835427-AACE-4558-8FEE-73C6618E906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11213F7C-40E3-4FDA-881B-72005A17517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EE638713-8BFC-4A96-B84B-FED44226E7C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20D56494-3274-4F64-BFD5-F426FD05AF3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64950203-AA3E-4F46-AA95-6F3649B1A8F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B1034551-F404-4FFF-B959-BADD2E210EC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F8868CD-75BE-4D28-9400-B1A67A54341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4B74E9C8-E9A2-4813-BA52-F5D8701D29D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CC12C49C-12F6-441D-9AD9-7CD2E9D862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E664D71-B1BA-4514-9D18-790B51CD8A2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70CA5A92-BAFF-4258-AE73-6694001FACF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85C46725-46C2-42E7-B5CA-43E94076FFB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8B916911-C331-453E-8838-BBDDF3BBDEA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5C76A1B4-9421-43E3-B45D-624F848A4B8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FA1CFBCE-7CEE-43FD-B84C-69AB8E51627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4BBB875E-683D-4459-B797-D1FF18EAC42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09F34A41-4104-4E10-9895-D6916A7110E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9A629035-A20B-41BC-8E67-D0281D69BFD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570C0C46-94B3-43C0-8D8B-F109F8C8554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CFAFCEBD-3F1C-451F-8DA3-331EF71006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1A92C66-115C-48AB-B875-D9D3DE5B6B4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6D8A9014-9C84-40F6-AFF5-E3AC1248CD8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EF6DB8A0-9E44-4B01-913C-A9B929A2FC7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2E98F273-D258-4E76-9AE1-D8D3C6FFDAB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F2C27337-75B9-48F8-982E-2F41792BB8C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FE8015BE-3206-46DC-9A3B-4CE77198D0F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6FAF370F-4695-46CA-A108-6ABBC74D04D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F8664EF7-C4BE-410E-B9C9-191CFF74D20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BF78B423-06FB-4B28-95B0-5378CF578C2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8AED04EA-FEDE-4A4B-9430-65C68BB12AB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35E37C3B-42B2-475D-8D75-80B1005FEF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777C6C6-2546-4472-85C7-CB94D92FF07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FCE495A0-7C29-4E34-A476-9928A15F4E6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BBB20BF-8F77-4512-AC11-900CAD42B10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79F6F5BA-9896-4F28-B352-79D889469F4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532EBFDC-E900-4C65-97A1-E38503C2F92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F951C40E-9FFB-4EB1-872E-827F039E5AF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89984083-44B3-4402-BC98-8F5B8F0043C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6BF8A2D0-D32D-40FD-AC4E-606E293A535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ABB5A16A-D862-4688-8902-566D1504A97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FD3E6312-AE8E-4C2C-BD8F-4473BDD37BE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79834FC6-1A03-4351-8AAE-0106FEF998A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3A5117-59B2-4622-8711-E9D65BFEFF1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67A40E60-3045-4E01-A863-B4F81880347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6B2B67EF-0952-4604-9165-5C74AD43297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19604544-73C7-4B94-B0A6-F9A6CB5AAE3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13EB5F4-4BE7-4F65-A04C-956B1FD213A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2B38AEBA-F70E-433F-9EA2-4359D2C43DD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25688086-6C19-4628-96C6-BB86323C2B0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64EA5404-F6CC-4866-B525-9BA194BCF4B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4F8A1965-EE56-415D-BC92-7DAF1E78113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FDFD515E-DC00-4766-9394-9D35ED863CB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B91DBEAC-E1B4-4D69-BEBC-272DDC993E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3A63C3-F74C-4025-9A26-3347EFB2F81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CBA411F1-27DE-468D-9866-F637584835C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97221711-7EA6-4A65-B58B-E4118076512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E6F19F40-25CB-4DFF-A67C-B6B0CF117EF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FCAD7FFB-3D5B-469F-A7E1-4C79A34D3D6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AD1B19D4-0630-49A4-9E70-E9B7F2A9116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67546C0-38FC-49C9-A5AD-BB88146F3C6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02782546-2BE3-4B55-AD72-F252D1DE160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10DE803D-7127-4B50-8939-93335C68D45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5425BF05-B767-49D7-860C-5B9222D55F3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7972CCF3-BAF7-47FE-8827-E98B6F4BAD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BEB67F-B069-4167-80F1-0DDE53369E4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46B4854F-9F37-4154-91D0-E7B19ED5E7B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2C1B3A0A-A3CE-4F84-98AE-E553332B277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D94D650B-0C9E-4C7C-9AC8-1763794D9C4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AB9A3CB6-CEBA-4680-A26A-59BA89C3B58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F7B38CDB-7718-4A48-9AF0-BAEB66EDE32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D9C7FE82-4E41-49E1-BD56-8CB2AC75FF3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4ABC03DB-7687-47C7-A0C5-2DAE14A269D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048F83D-F22F-4495-9394-FADB55293FB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87F2D5CC-DD41-4F06-B769-D2C4E09F328C}"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41724A0E-0D55-4029-8F5B-9F0BA8AF988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263418A-2D03-47F8-846E-CA27C8A12E5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F2D1362C-A185-4283-B3CE-B530890BC9AE}"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C6659218-FC35-49F1-811E-F46AFA3E48E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6F7B2813-47BF-4045-B4A2-47A854C01E4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25A0EE30-8D99-4892-8B4D-76E72BAD24F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63DE126D-1CC3-412E-AFB7-C28B39E6F75A}"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F674DAB6-F363-42B0-A0FA-8B25ACA96B16}"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B811734B-100D-4706-ACDF-029E2E094C3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AA399C05-AA85-4CA9-83A9-43EB37F9BA4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315111F8-E291-437C-A152-7C009D79C34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9076F92-B875-4B50-A805-B268DC391D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8D30A5-4C4E-409B-B974-3F1101C0F58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9A55AD32-A542-4970-964A-134BE1277961}"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B3786019-C137-4B3A-8346-E2A4C641B23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7CD09DBA-8FDA-475F-BAFA-BE326F257AE3}"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9C03E019-1645-44BD-8747-31EA4D4C80B8}"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02F2F439-A910-45B1-B68C-849F592676C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70BA99DE-43C0-44C8-B4F6-83F916C5E759}"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52B5AF41-9E10-4212-82CE-4944DB1E465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3F0052E0-8081-4455-8C5E-43689E68A64D}"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46B6E4DE-5B3E-449F-B38C-EFE9CA99C171}"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E05D18AF-7456-479D-A3FF-CDD7384F04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F74D97A-5908-4F98-A99B-87719B0FED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C29AE00-F483-4448-A0F7-1D7A2202A1F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ABE949B0-E7F0-4271-80C4-77A65650662F}"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550234E4-60B4-4418-A348-7A174B4BA0C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957D7973-E51E-4D3B-A3D9-F13A2D433C1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062237B0-5307-4AFC-BB52-334855A1759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52922F0E-E451-480A-8441-4B12493C58F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B8AE03E2-FA11-4227-9B48-544489A27AD2}"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C2B57708-1967-492E-A653-31DDE1991E2A}"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E318313D-E142-40CD-809A-92745AACEEB4}"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B9016C5B-E898-44AB-BFBE-BFAC4401EB7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F3CA0771-9E1F-4ECC-B26E-2C2553BBF1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CAC0C2D-20C5-45D2-B8BD-2F6BB84A673D}"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9B488E35-DE8B-4D72-880F-8BACD53150E6}"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AF93DEE3-C44C-4DD0-87D2-18576566B91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290D0C69-9713-4970-A62E-9579877FCD16}"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B52D65C-BCF8-44F7-AB13-D1FFD493F12C}"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03BFD09C-53D0-42D0-8BBE-36325CE6378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FD6B50B4-978A-45C1-991E-2A61F9FC7ACE}"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8758C606-A964-46BC-AF1D-8F551494F48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A07AE2C1-F676-4B09-814F-4B5631138373}"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1DF33763-EAE7-4D6C-A934-733E73E2B2AA}"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5FF29D22-52F2-4578-97C5-C580B864A2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342BECF-BBAD-41C0-8321-9007ED689A74}"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2D2E9527-7040-4A3B-91E2-E5E779094731}"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A2BC2CA3-6BCD-44B1-99CE-B3917DD197C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4BF73574-0D3B-4D05-8BA2-F39103DCFE4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95BDF85C-B170-4B1F-9ED8-1603499C86E3}"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43CCBE25-7FC5-4367-AD81-89705626BF7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C37CD200-4DD8-41AC-A3AC-7935ACFC9993}"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0BCDB840-6EE2-4E42-A1C8-8959F409FBE9}"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69D4478C-735B-4818-B392-ADACE6569906}"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347A06CF-5D73-4EEF-8257-25A41A33DCA7}"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2F06FE76-2075-4F45-A085-77A8C6E595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F6E41EF-1C04-49F8-9F87-69D564AB5A0C}"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8D454737-4A59-4920-A40E-D80E3954B982}"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B3A027C8-70EA-46DF-8B20-1491AA3F97CB}"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10187A66-133E-4C60-B1A9-99C5F274EB51}"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9C35E8D0-37CD-47EC-945F-849FB3AE222C}"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1A33C5C6-08E0-4F9C-855F-2CE4707036F2}"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C87F9613-A0A0-48A9-A2AF-85E5AE39671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6BFD937F-7FDF-4286-8A39-29ECB3AE470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6E9C0089-B992-4CF8-957D-F4BE3090400A}"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3F58D21A-2169-4CB2-8FBA-1F6F71574403}"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11E47110-FDE3-43D2-B8ED-61F2B25195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2F06B08-01BA-497D-825D-F073D5022F3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3BED6184-9663-4BBE-B72D-455480DBFB1D}"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5264A685-4BF5-40B9-9BFD-BCFC4417DCB5}"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6A2CD377-B973-4282-9113-C8811921A488}"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A65C3BA7-108B-4144-92CD-1F6CD70562E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CAB3B3F7-C38D-4DF0-BD92-A881F28681B4}"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75B55A6C-AD16-411E-80A5-AA05B0E5B209}"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48070283-9F63-48A6-8836-17A4794605B5}"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2F97E976-02EF-409A-91CA-57310414C654}"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5E748286-4C56-40A7-B079-AFE2144650AF}"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08C04114-EEBF-4096-AB94-C32D4E74D7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EC072DD-C8B0-4EA4-B58D-C37409932F0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46146080-089F-470B-891B-4105F5EAC74F}"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C349A449-D525-4FF4-851B-B6F93A8AE367}"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38A439DD-1024-4A29-9D75-FB476B8A0A52}"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FDA4787F-FBD0-4BC0-9BD1-D378AD0BBE1F}"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722738A3-637E-4671-837D-FCAB1CF90B8F}"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C73DA8F4-A188-4AA4-8A3D-E69EC297B402}"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5463D353-0999-4DB2-9620-0404D6617EC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29C2CEDC-1605-4235-BCC8-150CE7C51731}"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D45AD7CB-7754-49D3-ABDE-575D011C76B2}"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183455B7-F7E3-4686-9182-7E26691650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E0246321-3FBA-4BC2-B943-A44FEEE3C6A6}"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34F11370-03A0-4BF4-B931-E22F72D8D372}"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107A2506-70AC-4720-84D3-5235DB70339C}"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9ABF8CA7-2ACC-4DD9-97DE-A111CF0CAADF}"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15B701C7-EBBF-43CE-A61D-DA7E83E2918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0DE09C2E-F76C-4E8F-AF5D-8F53FC4B8246}"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499EFED9-5E29-4EA8-9F2C-2E7EDC055D95}"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FD69DA78-5DB5-47BE-8828-FB5D5FB14F53}"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023A9933-5A36-4985-B222-D5B34B16E81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C600B990-888D-43FB-A5B2-DA174E793CC9}"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64CB7667-A491-4D29-86AD-73E98A032E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21478A-5EBC-43AC-8E17-42EA90D24582}"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08BFE18E-7ED6-44B9-B253-2503CF3F105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7F93BEAD-D26A-41EC-8068-122A393D0BC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D315AA7C-9EF9-4770-B94A-CE5E71297CE5}"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7BE8B1D4-C5DE-4054-A987-FA244C9002F1}"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A44553F1-87F0-4DE3-A056-DA5DC8745B9C}"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53365472-59B4-4B95-B794-6BB0B1750CF0}"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E828B1A6-FE4A-4E83-9579-C2B367ACDF48}"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2634AA5F-5E94-468C-80C3-A099DF7518D3}"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F9D3A998-75D0-4EE0-A2ED-4B6D153F5AA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DD6F1B50-933D-4A63-A2C3-0D0532DD210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C73B749-3F21-4F2B-8096-9A22F1C4BD4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299EA5AA-175D-4D01-B3EC-1E446C527C2F}"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D6A3A935-7D1F-4B73-81B9-7D63AE3B596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8141670C-C236-45C9-B1BF-88A6CD1F1BFB}"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3702343F-2460-4CDE-BBFE-E3B1DEE2C827}"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CDE26250-10A1-45A1-BF6A-1432496A61DD}"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415C8F3-9A9F-4500-A509-62F5DF451D1E}"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4CD3A0A6-BE59-4C66-9A56-5638B3043370}"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43339373-F83B-4597-8E29-ECC82956796A}"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C9310633-9E82-45DB-AF19-6B1937B04E0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85BBCBE1-68B1-4348-9388-E29EE96B2F3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A988B7A-8A65-4B98-B222-8ECA305A6B35}"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6E3CB45E-C5BB-46C6-9F7D-AEB0EBF815E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FDABF8C5-82DD-403A-89D0-FD9DE8C1AA0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CDB4AFFE-DB05-4B8C-AEED-A665D6A1F58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8D01FB0A-7337-413D-B723-50672772CC8A}"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437794F3-F28A-4B4B-A8E3-A9C130CDAD79}"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8231C50E-06FA-40A6-B866-CF08CA0AC80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B45F19F8-07C9-482C-AE7A-00E5CCDA1EF7}"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60CDCB32-69C1-4014-99C5-CFD5D564FA13}"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672B01EF-4316-4B6A-A027-17F44115687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9EE7A2F1-2E4F-44D7-A559-ED14F04EB3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5FA55F2-A5FB-423D-A5DD-E5330C6211D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D01C56A-79FD-4EF6-81EB-09496C16CD13}"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3F6BFC63-F5C5-4407-A95F-986ACE990C24}"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0AA0910F-3798-4F8C-BDE7-C963B23B598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2D71F119-905C-4303-92F6-607FF58F5890}"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282B14B1-05C1-4015-81AD-C0F7F6C47633}"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FDD4B6A2-DB99-4C8D-A28E-AB92A76852D9}"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EF2E26AE-84F8-4847-9FB4-65D7F9A7F25D}"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BFD46A7F-52EF-4646-AFD9-3963CBA8D60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7EDE41F1-413A-4F43-A7EE-1B2D28CE8BE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15758A4A-E089-451C-87F2-3C2E8EEE6266}"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43612022-FCC2-42C8-BD2B-DF37A8CBD7A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95DEC43-4A45-4FB1-BD0D-7DBACD680969}"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AF7CB2E0-1D0D-4C1F-89C0-027B3DB9DF76}"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1624BDCB-968A-441A-B55A-EC8369F45E3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BAFD6F79-A119-4C7D-967E-21B306AD6460}"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82AB98AB-0A3E-4BBE-BE49-6863A49961A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3C213D8C-3381-4096-AE3A-4E4698540483}"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9460442D-C5AE-4D07-8506-B1269BFACEE6}"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54657097-EC84-4E11-8B98-91DCD0D6F690}"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6D929973-5FB0-4DB9-90FE-228522E763F2}"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9BB0FA83-7542-4927-A53E-D72F6FFC9FD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B8F90BB6-6DBF-4886-8698-F3D26336E83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C1B10D3F-5A06-45D6-BC28-CDC2E4392E45}"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B705D122-2CB1-4995-956E-402E16F9FBF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370AD71B-839F-48EE-A7B4-78B6CF4C65C7}"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7879868B-50FD-41B1-A236-7EBEAA4A6C38}"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00189DC6-CE4D-4024-A1B3-9F392BD3AEC6}"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7CD444C0-78E1-4596-AF43-1E8D9ED57F40}"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07A37FB5-2CB8-42E8-9F73-85A92301DDDE}"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1C5326FF-FA21-47FB-BFC5-28860846095B}"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2D7D0753-A805-49E0-A8D8-F80B9CE26F74}"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3ECB179E-113B-45B8-9DAA-747BFF6FC9CE}"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29F147E6-3D2E-41B0-AC9F-B57CE61AC3A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E939700-BD99-426D-8764-1ACF9E7DC9EF}"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6D88F187-B375-4765-8535-3B35E3B1E4FB}"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275A0A48-F138-4C12-B86F-E9C54953BB26}"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98ABD09D-16D0-4E3F-A894-944EEF507A03}"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795D0A84-5749-42BA-B5E0-AD93FB776178}"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E7B454F-9BE7-4F6E-9FDD-364D96343288}"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66CFCDF-26D0-4CB0-AD18-362D398299E1}"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9D7A5C2-CB24-4EB5-9927-232ADBD04456}"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5F9B7A2E-AFFA-4822-9F4B-0FFC8A983240}"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943B0003-A141-499C-BE67-29B6D7720B39}"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474580E-A983-4563-9698-BEF862A6938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F467BF0-1C67-4FA5-9310-25004795173E}"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0BB7924-D37A-44F4-8000-CF718209DB8A}"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3CDBA29-7716-47F9-BAD1-736AD8E776EB}"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59F5BAF9-C62B-4A42-B984-A02E6DE77499}"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0621DD67-1EEB-42DC-A367-FF6B5859F204}"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14616B3C-2B7B-43BE-AFDD-2BFA39B33E00}"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1490A020-D277-4F35-A3BE-7F6E5BBAC224}"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B02FADBE-BCA6-42AC-AA2C-2F2D22E40D56}"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FA8AF66B-3065-466D-95C1-AB709310D3C6}"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7274FD1E-34CB-4706-8791-EDCECCB5ABC8}"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3F3629DD-5F15-49EE-BEC7-EA453D7DD76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8364874-4F34-468A-9CA4-D6BC5EA4CCCA}"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625384E2-991F-4882-9F48-742E7AB04CD7}"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C49C2501-E1B5-495F-9AB4-42331C15A237}"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E5F4E171-A781-4C23-A9F6-A80BD52C871B}"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DC9D1769-E213-4069-ABA1-731ED63D89C5}"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C3A80045-2469-44F4-8818-E3574CFAB28E}"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24B21CD2-5FB5-40B2-9A22-7C1F58D8FF13}"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4AEADBE8-7821-4DE2-B82A-395F51A37E2C}"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88FD05ED-D747-40F7-928E-9B9D81DCCD3F}"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31DC49AA-2FE2-40F0-95C1-62407F8DD1BD}"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54A431B7-DEF9-4943-BF16-AD13AAACB19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3E0CB85-6EC0-46D4-8B2D-C6DEC812322F}"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79DE6D84-286F-4CED-B5BF-ACDDCF090CCC}"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C342D4AB-DBCA-4544-BA78-FF1E7F8D01BB}"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34C42E3D-3D76-4C59-9E31-A2943C758073}"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62627A86-3E1F-4547-AF4A-E30199C20449}"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31C186CC-8795-4AE1-8B87-2B2042702E09}"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6EF08CC0-EB55-4711-8B71-F3CE81974B57}"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A3E44D08-10DD-4FAA-9D3D-6E1FADFFA29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86FD9247-5CD7-423B-AD81-111B76C12D47}"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E0136F11-59F3-43C4-A2D1-ECB1048CAE1A}"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5CCC65E5-3760-424B-94E4-DD2BB398123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444C4A84-6E6B-40CF-A5C1-A084B6D435A7}"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DA5D8A81-1F42-49E7-869B-C368AAF2BE00}"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2FB5EC71-AAA9-4852-A2E8-F8126E79272F}"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9EB82E0C-8DB7-406B-ABF5-78B2110F7E81}"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CE730B04-33F2-40C1-9ABA-8384D141E805}"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7B331D60-63FA-4ACB-940B-35550DF59E32}"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BC515CA-5B72-41F6-A6B1-A33DF21CBBB7}"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3783E9F-8FF1-4DC6-8B90-840CA55CDF72}"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6B10A41-8205-4F94-ADE4-34369C294629}"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DE748DD1-BF00-47BF-A99A-D892D4242E44}"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1F470B8B-C2A1-4188-9301-4705367C50C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5B5116E7-F8FA-4281-AAFB-8FC308A56CC2}"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D273F861-A194-405E-B590-9CA7667CE2A6}"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26C4D947-413A-4549-9133-8FE3E13C2319}"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350480E3-2C93-4026-A46A-F019C580827D}"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3A589148-15DF-4876-BC77-884165130679}"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9786DB4C-023D-4CCA-B7A6-F8D68F1F9579}"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B3C99D98-A93F-46D6-9ADD-2966749839A6}"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0AEEABC2-8BDD-44D3-8BAC-A16288B8FBAC}"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C2EBE3C0-D1D2-4423-B425-31DD5EDCEFC9}"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82A0D9BE-0B71-4310-AA86-4518C9E4EAE1}"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750FAA18-3799-4DF1-9AA5-F5A3D2E6AAE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BDE409F-3A30-4B27-B90C-992D63094F9D}"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DE267E49-65C7-46AE-BD5B-19557DB83DCB}"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92048A5D-5B28-4FDE-976D-D5BD4410E3B3}"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8B1E6424-CDFB-4921-94F5-1E709E244E97}"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DDB7DD71-9FB2-4E65-A85C-E894D56F2DAD}"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5193AD8D-3AF3-4C8C-BC93-04F7DE7ADD1A}"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D20CB5C6-78FD-46CB-BFF1-6661519E105D}"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83B16721-CC8E-4668-9150-247AB5731124}"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E58BD5C8-4BC0-4E5B-8313-C971C818E0E4}"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9DA7613B-B114-4594-A169-F4256CEEE132}"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AA263056-87B8-4FBC-8736-9850763DF0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53528BC-E6AB-4D1F-BCEE-3A696064149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52D63B8-E11E-4523-8413-5D4CC0F3F8D7}"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6C9F3274-FE74-488A-9F6B-33C6A378D0C6}"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3D5BCD07-27E5-4D1F-90D8-0BDFA67A2500}"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693ACE21-B295-407B-9594-B486CB353802}"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79D8D958-878D-415F-AAAF-00EAECE5CE33}"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DBB79B8D-0B26-4615-B7A6-EB175043BA79}"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6E04865-387B-4C24-B9EB-C2F9001C0B20}"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1F95F24F-775B-42BE-B64A-3DFB8DF9899A}"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392CFEE7-BE51-415B-8C2C-4DDF4BFF4A65}"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16BA976F-7759-4486-92FA-B3BE8CB2465B}"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6359EB9B-5669-4ED0-9F0F-C76323635EA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D180981-A2C2-4F48-A81C-F14784471759}"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1DCB3AD2-6566-4322-A316-6D8B8165E130}"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E127FE94-126C-45C1-9A31-57D2717EA914}"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BCCB439B-D6ED-4640-A423-1D199C3FC058}"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6B4760E6-8CAF-43CA-B0B6-9683F522C564}"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D928493A-1082-4DE8-95AD-9DD1B43D840B}"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14ABDFDC-E4C1-4949-95C2-995D38C4C222}"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5D46F6C2-7DBD-4F4F-A9AA-1A8869165B93}"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0300A29F-840D-4596-BFD3-0F9C146675F8}"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D97EF635-1518-4E7A-A99D-EC188D9FC8F4}"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EAC5C5AF-542A-4D6E-95FE-88C9AC04CD3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58E24A0-2557-4FA4-87DD-2CF9929C4ED0}"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2BED06B1-12F0-4E85-990F-B90F1B1966AF}"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9B20314B-93CE-42BB-8785-A25FE4D17196}"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5F13F92B-CD76-4DF8-BCA7-B71C28288A72}"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A6EBAC6C-D6BC-4149-B20B-D7354B99FBE0}"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EA3B4231-0A7E-43C2-BE23-0DD1D356160A}"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0F2D9DEC-7B02-49B4-BE53-D614A2D7F5FE}"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FBAC65A5-974E-4F17-8C19-DF93C85ECF85}"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AC09C43D-AF1F-45F0-80EC-BE79756B830E}"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83D4A6BC-DE0E-4F20-8F79-0EFE84F326D9}"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BF1CD151-8803-4B74-8396-F5946AB015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1D753F8-F1D3-41EF-9C97-F9BC33B9A5D4}"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3B65624E-EE2C-4EEC-891F-43A62F8C3BF0}"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8E5D272B-1BFE-4C79-8033-FB31D7CE7A30}"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FC279836-EAFA-4633-986E-D743036CFD47}"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1CAE9280-06A4-4337-9CF8-9AC3311F7574}"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F1973195-90E0-4DF5-A82C-F2C3221B7AD0}"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A2DF5A0-F295-4C5A-8B93-7570DB26CCD7}"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8842FC5D-21F0-4788-9316-FEE48B37B967}"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38C9591-5E74-4F62-BEAD-5DE6A3712D2C}"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5E48FE31-9F56-48DA-831F-777115E1C8B6}"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9EB8167E-D5D5-4848-9CCB-2B5B0E47F7F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254A8C05-830C-4DC0-9F4B-3D67B8706C33}"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B234314F-9A72-42F3-9632-1B2998C898BA}"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D6AD1D45-8015-4CFB-846A-95297251E370}"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04E9E91C-C92B-48AA-9639-350D4AE23B84}"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3F697692-1ED5-4666-9256-A0A0047B27C1}"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4E961F2A-AE6F-4738-955E-B0F899611307}"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E1E33D99-4706-41C4-9D6A-EFBC63F9B409}"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C57CA9EE-F616-4A6B-A5A4-50464458447A}"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D0433148-7C27-4350-9D94-7737A315D742}"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CDB1291A-D3E4-4F21-A0B4-DC5FECAD8BE2}"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D34E30A0-C01A-40E7-AA9C-B2F8AE9CB0D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C3EF794-2053-4BA3-AFC3-38C36EFF84F2}"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4F08A82D-310F-47AC-BB6F-1920850F5937}"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220FAE4F-CBAA-4DC1-87C0-12239B7984AA}"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038FFCF8-5C07-442F-99D8-645209A9DF30}"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A1B1D8C2-D84B-423B-BBE2-54A5A96378AA}"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AAC8888C-2DB1-4AAA-BA74-68B189DA9201}"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F336D2A2-44CB-4F4C-93A8-AF440012DAF6}"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BD45F306-174A-49BF-8219-D20627F4F014}"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127221BF-3CF5-4623-86DB-152FE26D7C65}"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12609535-5CA1-431E-8948-D5D19A6D21B6}"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D93F9D09-4E96-4F5A-9EB3-634D0A3C7A3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7CAD981-D350-4E17-96EC-97E696D6D49C}"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ED9D04BB-3CB4-42BB-B055-5318F6D9D34E}"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D18CBEBA-1A1F-4B93-B6CF-35207F0FC3EE}"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72C6A01F-A28B-4E53-9CE1-3310552B4A87}"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2B82A647-9330-40F6-8EB9-B2C84D827648}"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AAECE2DC-7FA5-4979-AFC0-2EF77BA2A83F}"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95D9AC7E-CCDA-4358-BE60-DEBA35F5D636}"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43E1F45D-83D3-4289-AF1C-0339D13D39E7}"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7CC0BE5C-045F-4D4F-9DA9-FBB75F41BA54}"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875A789D-BF35-4091-B9F6-111D1CEB577E}"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37CD3EBA-5272-407E-945D-2E01ABF749A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AF19E99-5030-40CA-8408-EDC6EDD8F1BA}"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FDCAC769-700E-4DA4-8944-F4461D4CFD21}"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D3B571E0-14FE-4B03-9CD9-2846E566EFBD}"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48689D52-9128-4060-B2E7-C235F1DFF0CA}"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D60B268B-0611-4726-97D1-5D7BB2DE2EAE}"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158F4059-9E3D-41ED-ADFB-EED2E01403B6}"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120279B2-ED7F-425C-B5F4-14155F4C4DB5}"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2A3B0ADF-2FD9-431A-B19D-5DB863056B48}"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48C9D817-9FD5-4CEB-8B90-A9D332E6981D}"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8BFF2909-F1D1-4A00-B559-83D8EFE0DC83}"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FF0F4D6F-F688-4567-A570-3D72E42262D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C5470D6-598D-433A-84C7-0FFE63BC8BD5}"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E62C9A97-CACA-4220-B9A8-524645BE473C}"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7D287644-2F30-4A2D-B0CB-35E068BDCE5C}"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557D0E22-42DD-492A-B10E-775DD2DF0134}"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4B8394D6-3905-42D2-AB0A-09F20D189503}"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4925169F-FE48-4465-A4DA-659112C0E92D}"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FE056FCB-D620-45DF-8338-6260C874ED79}"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D4708379-9F0E-4FE9-BD46-AEA22D7C4887}"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16A3BCA0-77DF-4726-BFF1-4049ED494668}"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8D9DE904-18DC-407A-98B3-054517AC06E6}"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7B682F67-9662-46B2-B4E8-BD3504E1A52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5B0EAB8B-86AE-4974-B8FC-9FFB8B62FEF8}"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3E4EAF39-F32B-41CB-BBA0-0BEE3BA769A3}"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BB878A38-BF8A-4799-9773-56CA21F95526}"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7D1047F9-6CF6-4E66-9918-08F6CBF87760}"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FC1AB865-B77C-4545-AF64-348900A9FBFE}"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4269B96F-82B0-4C69-AA93-DE51DCFD505C}"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814AF0D8-3E63-4B68-BCAD-988AC29F8CD1}"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D2572E77-2547-4631-91D8-8023A1C4FC6D}"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53F9678F-24D8-46F8-8A75-278960585024}"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70FF1331-5127-4C5D-BEF0-7EB12826DDEE}"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47D29938-1799-4546-9519-F6E14BB397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9AFE9F2-7830-4B5C-B322-6D222F232C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8DA5A03F-7E02-4BA6-910A-D1C5A8D905DF}"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97853E5F-7A86-4C73-A4A9-E85B4DDD2A8D}"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2B77C253-8305-4CF3-910B-5BEE739093A8}"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451147B9-A4BD-4A15-9372-1E8CDDFFA029}"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23B5674D-1F33-4E25-A4F6-16986D1A30DD}"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0CC76A70-E482-43B9-837B-1D3128D12CBC}"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0EE297A7-8BD9-45E8-A768-2C4E6DEF714F}"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E8889A2A-400F-4E85-B674-5690156A68D9}"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4FD261DB-1488-4BB2-AFC9-C495D7BA0E39}"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093E7827-548A-49CF-A3CE-120D2F2A1277}"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87E95690-1DDE-40F0-A058-59E37B7E45D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7488097-4390-498D-89AA-90CA78382B96}"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33733EF1-32CD-47D4-AB95-7A8E66134505}"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E9C22273-5D57-4D5F-A621-C12F1893E8D1}"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8F3754A3-82D1-4135-9BFF-A2D13B185D14}"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FD9036F6-689D-46B4-9CCD-0A262C2971AA}"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48F7241F-80BC-4BCF-97EF-318C9654B2B2}"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7C4A1B66-74E8-4E86-952A-08E8644CA582}"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6289F2A9-1AB8-4BED-8C56-087662F9A08F}"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CC3DCF6D-7B5C-41B5-8B0E-2799A5C4E2B7}"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CEFB7AAC-35FD-4E8D-A701-2533169C48BE}"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8DDADE6B-C9C4-4209-B7A5-DC61AA6E6EF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0342B5F-B1EC-4EFE-8A11-7E335C6EB0FA}"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3719B14C-BFC7-4E91-8A23-4D1C32BBAA9B}"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8B8C7F7E-BDA6-49C1-B37C-7E60F659B55C}"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B9F6FCC6-E1D4-4566-9B00-2317BF230949}"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44BA47BB-AB54-4AE6-A84F-B0E4E72DF84C}"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D629C65A-5478-44CC-ADD8-8DC6598240C0}"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511BCB98-274B-43FB-B508-A426DA0891A4}"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A09B413F-26AB-459A-A19C-7D3750829A05}"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2FABFCFD-A9AA-455E-985F-48A789A628B8}"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79E8313F-1E37-4915-A6B7-89BBC4D768C1}"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C2800B63-F346-495F-97CF-ACC79343402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792DAE3-6E32-4082-9723-1464D53F4408}"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506CADDE-7DC4-423D-A4E3-75728D84661D}"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FE74CD94-7D7C-4A7D-A9E6-A2569A4BC5AE}"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15EDB8A4-5882-4417-AE0C-4BB0EAB0CFC5}"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1666A687-D659-4635-9739-6D0A1322D6A2}"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31CD6B2E-B0DE-4184-A978-7CB161756096}"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573A18B9-C3E0-47DA-951E-7A0D302CF1BC}"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6867D418-A055-4465-A475-9F975CBD9534}"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92E0865A-F385-4110-ABD9-2B6623CF43AB}"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7784FA35-788F-457B-B3D5-E3B10B9F11A0}"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F5EE5BAE-D34C-48B9-B7A4-E3E828C4376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19340A5-299D-4ECB-B911-08F9C909E5F7}"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F83C581C-AFE1-4921-914E-143554A94411}"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9FC27D8B-03AE-4C92-BC1D-1337858BA3B2}"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6B2F2A71-FFC8-4DA2-8E20-8BB3E517A6FD}"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82484992-30B9-494D-893B-1991951008C0}"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F79E0688-C06C-4DD9-916E-26DFF8D1CDC9}"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00A81C0B-6567-4D9B-914E-F2B4CA1B4F8B}"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80AE735D-4BB1-439C-89D3-7AF3A74311E2}"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D88BF88F-7576-412C-AFA7-F221E9BA72D0}"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B44F8145-822F-4046-B51A-D9FDEFA53C5F}"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78A1BF70-CB74-454E-99C8-6DE435DD7DC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15F8A0B5-0EFF-4E13-9FD6-F888CB25BE79}"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A5CD7ADB-5872-41FA-9958-165F63306602}"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FDDE0B4D-1983-4325-A464-72DE8E1D6826}"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656E02A8-A4B6-4B91-8BB7-1608CA13A3CA}"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14926763-DFCF-4680-A946-7D0A4F8BE42A}"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9CE275F1-2F83-4CCC-9E88-7A5F7C6BE0F4}"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8A6D449F-22F7-4AA9-8C44-571E7B526B32}"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03C57561-8984-4AA3-B38B-C5D8AD5AE2CF}"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512352DD-3D43-47DF-A548-80FC62F00F48}"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A618374C-00BA-479C-80F9-4B720BE264C5}"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411EF497-240E-46A2-B39B-7F5117F9141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DAF6A20F-2B3C-4747-BECF-791178108C2F}"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6BC8A918-7BB0-4CB0-B1B0-90733C19A391}"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AB8F124F-816E-4BFD-9412-3CF4BC99A0B2}"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A67443A7-CF8B-469B-8BEC-4F0E8492E4CC}"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2534B4E3-2ADC-40B2-AEE5-3B4E7950FEE6}"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E8EF2D35-B0D8-44EC-A61F-731F61711129}"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5B46C1B5-A8CA-4AEA-BB8A-1029688A255E}"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BDB2CD1C-9A92-4D2B-A1B5-98FD303B0963}"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60D22127-60E1-47AD-8B71-A5E6C1FCBC39}"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FF0ACD9E-2C1A-409E-A532-1A5268958C6C}"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0E508871-F5EB-468E-BBEC-81CADCD2A2F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70DAD87-786E-4151-8475-ABD56BCAF5D4}"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6EBB1813-F60B-4164-8A12-03C4727D0AFC}"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719E4F58-C19C-411A-A5FF-EA60F6515005}"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7640609D-0E91-49FF-A0A9-B182DC797F52}"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256D9102-8867-474D-838B-134703DD5920}"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F54AA8AC-52AC-4CF4-AC25-292F7A470F14}"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6CEC81A3-815B-4F81-A27B-51948C717882}"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E4F88D6A-F35F-4ED2-9BB9-1F0054395A96}"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1F314F95-AFA8-404B-9EFC-46F1AC758463}"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2B667ABB-8569-4257-89BD-68A6AE108B9A}"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A65A6685-F99E-4A54-B4D0-303FA36C108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7427351-DAAB-43A1-A8E5-40F369009C0A}"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9C7B20A9-E8C0-41C3-88E5-D8F6A8FC2430}"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FDFE9F3C-BF4B-4166-BC5A-19988B4DCC85}"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DCB8BB3B-D1B2-45C8-B1CB-1D5D2CA52DB3}"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0EA23EFD-251B-41E0-AFB7-CA93A950ABE1}"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58D21344-C2DE-491D-AFC0-A845941E02E0}"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67AD423F-E10D-4A13-970A-307A2056CE19}"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6AA983B4-7B56-4A25-83A7-A62CB175DCFB}"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C288C99C-598E-453A-A947-81FCE25442EB}"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92D44BFC-0C84-489B-BFB6-8D733D40A9DE}"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F5848CD8-7A2F-4C72-91D3-804C74259EA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0713F04-2904-41F7-9979-2A55328747B0}"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2EC9A33F-DBCC-4CE4-9D77-D1D664DCE506}"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9EC45633-2778-4FC3-9B7B-F5E5D41EC6F5}"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14AC81A4-C54A-4B7F-91C0-B45ED916AFF6}"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DDA82E8C-B898-4EB7-AD7A-71D945480B0D}"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14703CAE-B43C-49A5-BA04-663F30E0439D}"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748E64FB-0F2D-4A9F-A82B-29E5EA351DE4}"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AAECBF95-A5EC-46D1-B8B4-5D9B2B5F65FA}"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B00C0E45-4045-45BB-8629-ACAD615C95BB}"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F90AF4A9-641B-44DD-B12D-E59E909F6227}"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926F00CE-0A96-464F-A20E-C55104F840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4DB6A44-31EB-4A7E-920A-276260C3A35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45F4464-B6E4-4785-ADC6-1A552C680F28}"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15AE3635-2A60-4ABC-8D3D-3A70C06374EA}"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CDF20478-F3E2-4A68-BF00-F032BABE1DD3}"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27B06950-01C0-48F3-85C7-9382A2536F9F}"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5F190A03-4FC4-4403-914A-7B703ADE7046}"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A13DDC2C-F9CD-4910-AFCD-2C187B1CA88B}"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1897884E-F7F2-41A9-A2E2-F17B8C7F9172}"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616454B4-5647-4A4D-AFCF-9D7088F4B1CA}"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340FE510-8586-4DEE-ABA3-CE9A2AA49CB1}"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A39EFD5F-74F0-4E61-A185-6AC4FCB62732}"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D6A91B8C-8659-49C2-9178-BFBC427842A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8731BE7E-57A4-4BA8-8FAF-8CD6A13EEA38}"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352BEDE1-372F-4B04-B8CA-D4D372E46C7C}"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3B886E04-E404-4ADB-AE6B-AD5EC8792621}"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ED713B72-A4C1-4C75-867C-F46020BD6AEA}"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A3306DC2-69A0-4F3D-94FB-4B37638DFF8F}"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9B94A6C3-23C3-419F-A318-49F15F823AB9}"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D4A21BD7-E320-478B-AAAE-8BEE07FEE09E}"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29766373-BDFD-4DE8-80F7-82C5B7769EE1}"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462AC2D9-A8E8-4E36-85E7-27454221F245}"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7A2F2F62-377E-4CC7-A8A4-4EE4255D909D}"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D147D385-64C1-4FB7-A180-FE14E617071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8D28ADE-19D1-45B9-8A31-2C56558400FB}"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E9180196-0B12-49EF-AEBC-BC936BE549CA}"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FAD22F77-6FBF-4592-95BF-CB38BCB3F62A}"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A4A2AF1E-32BA-4E3F-BE6C-6AA8A33986CA}"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0E3B487E-AE4F-4AC5-8331-E8CB8940F813}"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29CEDA16-7D9C-4D97-AFBB-478447A7FAD1}"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4F86225E-724C-42B1-88BE-22CC95C08934}"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B2617981-6018-412E-8DD4-8C64696608A3}"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8781B3D6-3519-4883-9958-B9ED60F62B30}"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24210246-5E22-4549-B680-27FABEBE14B6}"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FC5E2596-DCD1-4652-8F32-677B605648F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74C2C77-0525-4321-BDDC-AA224C416C2B}"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4A0FC055-A5D1-40C3-ACE1-6682A2CE4E53}"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493A2043-610B-4261-9AE1-1AACE2824C88}"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B1A0D65F-AAF1-433E-8A18-FAE362CD232F}"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A58B0008-83A0-4546-AD32-F31DAC484C5D}"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97E62F73-7952-42BF-B75E-DA5BCFFB42C6}"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2930B990-0144-4935-9189-2BCF7455C2D9}"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F23670ED-F165-443A-B2AD-DF8F7FE00BB5}"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208DE6BC-E06B-4E53-8E6A-76BF082E3623}"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46C98CB4-1B8D-44EA-A746-0E1BB57C0DAC}"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ECF7EE54-B41C-4BC7-A485-7A67E2295FD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193E9FC-BFDD-417F-9DCB-E5D07433BF0A}"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9868FE48-6414-4B07-9088-1F867655DE55}"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7B1F50A3-6CC3-4ABD-B2B3-D9EBCBEA1A87}"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86C4C1C7-A6DA-448E-8469-9B21D40FB1CC}"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A0EC16AF-2997-41D5-BC8B-C1A89EAD3D7A}"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8A554083-05C8-4BC1-AA81-9B9616FBF926}"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7FD278CC-D9A5-4F0B-BC7B-2E980D6F4822}"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54473C8F-5BB5-4FDA-9A59-BF8124605AF2}"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F439570E-B9D5-4566-B864-6ACB7D095BDD}"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5FD6BB51-1431-4E8B-AF12-D7270AB666C8}"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7333D369-4C73-451E-930F-EE085E9A702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F22CC12-0BF6-4868-B48F-042CF08221A1}"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93BEF6F9-CBE4-43DA-BB0C-8845FC1E9A0E}"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77A53DFB-5208-4816-B594-440F35D2A7FE}"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F656ECF9-7CB3-4BB6-BE3C-05649F54CA0D}"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D8368F3A-2710-45D7-B196-59F809769EDF}"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1F981347-699C-48E9-AFE7-28FABBCA050A}"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09825F52-1842-43FD-A12F-DE07646C97BA}"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AF86B409-C8DD-495C-A7C8-90926A01853D}"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782B78B7-35EF-4059-A594-4A70C596A431}"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9DBF7A20-8A34-48A3-8DDA-5C04211428C1}"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9AC1C57E-3C87-482E-9EAD-3BE5D7BE21E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592BCFD-D0DB-4858-A4AF-FF3CA31AD9E3}"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3AEB1C31-1753-43ED-A18B-289B54A8F9E5}"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0D99C754-1154-45FF-8AE7-B45803FE1F34}"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96A45095-08FA-495E-BD00-310F6C38B42D}"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653921CA-7FC4-4C58-BA46-417C7393E769}"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B2B335F7-CF36-46AF-9E68-1789F96E3736}"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3197A199-8CC0-4BBF-A3AD-41851C7D9913}"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F177CC87-1F0E-4AEB-9BD1-50B9665B692B}"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7AED9ABB-5A87-4A61-8906-FF17DC46E64B}"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F3A0B59F-C2C1-4D2C-807D-F58EB9402AA7}"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10525495-4BEE-4B5A-9823-173D69008E1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8687AD92-5F82-473D-BB31-C345BC0873C8}"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0425C15F-83BC-49BF-97F7-98BBB1579545}"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4984674C-F2AE-4BA3-AB10-6D0376C3783A}"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6E721818-3840-45C9-92BB-0FEE83A3466A}"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2CB21DE6-ADB7-4AF2-AA01-31C21CF2B1CE}"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FDB03BF2-4AA6-46DC-81D7-90F236D86273}"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98F8EAD0-1C39-419A-82C7-E1C2A5145FD4}"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3F064503-1938-49C9-A849-2517CC16B2ED}"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B27147BD-10EE-4BB1-9346-4D593284C4AF}"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26EE0CA5-A8FF-4E73-A3CD-E303837696A7}"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3BFAC947-9252-495D-947E-CF797116636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2F1B652-4B2B-4374-A6B8-8D57ABC16B58}"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3666B5D0-98B0-414A-AB32-E526292BBA53}"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E0C95EAA-89F6-4C28-8B3A-07293F833D79}"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F9AACD60-CF00-47A3-B8F6-715E58569FA6}"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68C205BB-F75E-4DA1-96F9-87ADEEF6D6A7}"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0E3203A5-359C-448A-9814-C8BAECF8CC73}"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1B388292-6076-4717-9836-35ED1C61E64C}"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0F74AF74-E742-403B-A12E-79D3109DE412}"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0A84D4AE-14B2-4D57-9B5B-13D4BDA9AB8B}"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1BDF58AB-1D90-4520-854C-94FA07DC325D}"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DC77A71A-88C8-4667-87D8-2849CF37216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2628C1C-8283-4A21-B4E6-17DE1ED014FB}"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88BAA13A-054F-4D94-ACB1-09DEFEAA8B9F}"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42375630-7ABB-4F66-9A11-48873E4ED406}"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C8CCA7BE-ACE6-4C14-84CA-A5D9395340DE}"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C26E1A38-A321-40CD-9203-0A897F2E1AF7}"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8FC630CB-7BA0-4049-837B-643F266968C7}"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F8C04082-EAC5-4BDC-AF52-A43574078344}"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6ACBD935-2CA5-442A-81F6-F7E73D1EE82B}"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9065FEF8-2E1C-4AC2-9EA7-84861AA4AAE4}"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282DD140-EAEA-4054-A89B-58AD61FBE2D7}"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49AE77C2-A6C5-42F0-BAD4-04E0C47FE0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FEDDAA6-849E-48D9-82E3-21C8E35F72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5626812-9637-471D-9786-82705AA04F7A}"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37498BBA-DC65-4D1C-A62F-228A88C3DB11}"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6947E2B6-CD99-4C01-8713-17EB9855E50A}"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7CD60A0B-EFB3-431F-8338-980E51B70CFD}"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D0EE191D-C5AB-4A31-B6BB-C04D5AA775D1}"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89C0E32B-BCE7-464D-8371-3617D7A246C4}"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F87C3F51-5974-461F-A1E3-29BB05BCC2B1}"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18400BB3-9A7E-4C87-840F-EB07D88860E9}"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07D67E9A-768A-4F49-ADE3-0BB7AB9969CF}"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33DB245D-B974-471D-B182-486878118A57}"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EF22F5CE-1FCC-46D6-83BE-E15DDE5948F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6354C84-8503-4D51-A031-E52A76F4BE4D}"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14C8A9DC-63C2-4566-A82C-A92B7C110DC1}"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E9D6F772-4D18-4C58-A09B-F9A54F6DBA7B}"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4998BE5C-5149-438F-A4EE-0E220DE16592}"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A83CC424-71D5-4B0C-917B-3F6D20A4D5FD}"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78F0D12B-B760-47A1-9425-7A997D0C69BC}"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1957395F-3CF4-46C2-804D-A2BA4C50ECAD}"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A9537206-F816-4AE1-897B-6FB2B85F85D6}"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008DA991-64B3-4A4A-8B91-DFD932990648}"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2058B2BB-7261-4061-8777-B93B071B2AF2}"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C15FF332-6C83-42F1-A70C-7150E7FA562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FE39E45-42F9-4314-9BD6-067E8016AF5A}"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C78812EE-6E9F-48E0-8B5E-38BD53E8F093}"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7995B728-A394-484A-BF9C-F28B0CACDDCC}"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5F5657E2-B38D-4A56-800E-949E85B323F0}"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C5FC9C63-29DD-41F0-8F5B-3D37AC581981}"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0FC51B80-686C-4726-A20B-84890FF91132}"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D2A54CF2-BB1C-4BD3-BF71-43D6662F52A0}"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A5F11DD0-530E-4AA5-8ADD-F6F8065742D2}"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957A7232-51A1-43EF-93E6-150241E0F108}"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A4EB8F6B-4428-432A-9374-DB5864314BA8}"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19B88DB4-89B9-4FAF-B3AC-3454F24333C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B751B7C0-B5A7-44C3-9357-9AE4654EAE0A}"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BBB4442C-25F6-48AF-8996-762416AF5A0E}"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B6CBF43B-3CEC-4D17-AF32-A722F0C93FB7}"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253BE3F2-FFDF-461B-AA77-B1F78CB5FC25}"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196C3C0A-DFC9-4936-9FB6-6E543F837B2B}"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7158986C-3690-438B-9DE6-3F90B0F4C176}"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2450E797-8B12-4AE6-873D-4595F478520E}"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2A77AF3F-7B73-469B-A293-5A387C3C139D}"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3E15998E-399E-49B9-94FA-E89FF589CDFC}"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198FEA99-6DCE-4AA0-93F5-B6F198AEAE19}"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FD632885-52E6-4EC5-AE1C-33C1FC4FA3E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CFA70B43-E8A0-44E5-8E3E-FC07377384B7}"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9E0524CF-0CFB-4B6D-BC55-44A156D0ED77}"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665E2B67-6A9B-40F5-A2B6-5C870B547452}"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EF89D4B1-4DB6-45BD-BF27-3BF7D7249590}"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DBAC339C-2A58-4335-87DC-3A3B048E75D5}"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D0393346-B0EE-4C98-B680-58901B12140E}"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75B14AF7-BD40-4661-8DD5-2E16A187A132}"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5545660D-A61A-46EA-99F8-0753919FB88A}"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33CFE836-2172-4BD2-8E96-654C56A79074}"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81787AC0-AB4D-4CEC-8ED4-AD56A545C03A}"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FACCCF3A-96FC-497C-93B2-249A64DE52E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9A027BD-4A98-48D7-A3A0-A8186943A4CE}"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60DF4242-600C-4A5C-A67A-33ECB2307D1D}"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F9797492-F2E5-4115-BDE6-3E4182199A42}"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45A55286-A5A4-4E07-A067-A8D55A9114AB}"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199573A2-2E64-42D3-9BA3-B22BB2816883}"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800158DD-B97E-497F-9D69-2F0CA7743E6C}"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31C0DAAF-10A7-49EE-A52C-7D0BCC46CF98}"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A3485B96-94B3-42CA-AC11-DC7F97F5CE9E}"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0C8622C6-6D23-4CE6-9E79-818FD6C27ED2}"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BA0BC92D-FA11-47A5-ADFB-0E8983F2DF93}"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AEA9B4D0-8E0C-4FAA-AD74-7879D9D2BDA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578C8AC-C4B7-4411-B5F2-2D20606AA16C}"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6AFD2DE2-49EE-4C4E-95F4-E9D1B03482A2}"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904F2522-6B1C-4681-9B53-3429B6CD63DF}"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FA6B8949-3897-42C1-A246-82438BA7DFAA}"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DEAEECE7-A4C1-4446-ABFE-B8E96BB82963}"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C485F6BE-7321-4209-8436-6C3F59EC0693}"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5256BD86-9D9A-4370-9BF8-CEB24EC3863B}"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9D7BB208-7A75-4123-989F-9CC3C6AAFB4B}"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E0D8E01D-696E-4B0D-868D-9E7782F37310}"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EB8E2BB6-8E1E-4E57-921D-F1BECD4C707C}"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90035C9F-F176-4D18-9661-56F9730C113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638F8F5-7414-4FD7-817D-E3DD14EB664C}"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789D6560-6A92-41A7-88C2-77981CD384D5}"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6120D67C-5CD0-4A56-BD81-9DAD19C85AF9}"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215E7C45-EB06-41A3-8F61-611381810EC8}"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C9AB9C4C-9B93-4E67-AC3A-3E89B06965E4}"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B5101E2E-5EFC-45BD-BD40-0E488A43157F}"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A2009DA7-4CFA-407D-A96E-D36620BEF0DF}"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6F9C42BF-33FB-4037-B691-B17648DB47FE}"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3742B3BC-E8A5-45A6-AF92-F8AEF1C912AE}"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83A1EBB6-1498-41B4-B32D-EE840D6421E4}"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248F3F38-1BCC-401C-8BCA-1B431149770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C884D7B-3295-46FC-90F5-93872D47CEC8}"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61276136-A052-4186-A6B4-A6C5A0A9FFD3}"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0D1CCC8E-CFCB-4738-AF6A-92804BBA8404}"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531C24B2-2236-4888-BC84-73CF8A3EAC91}"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8A86CB8D-E665-47EA-83F9-9365004E96A0}"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4992CFB8-6BC0-4DCD-B40C-AA6AD2741136}"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39950EC1-F554-424D-AFE3-FA36677EF16A}"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9FB1B91D-8AA9-4CA3-92BD-3A027BCE95C0}"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4906DD68-1DCA-40C9-8728-F312384E55B3}"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0C752BA4-E832-466C-BB30-60A05519D142}"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9E791FCF-3771-4994-B7BB-2A866418A73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48BE3EF-7583-444B-A78D-54CB80E37B7F}"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A8F78872-D227-4C96-BB5A-8493F7695F27}"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16348C92-B145-465B-823E-66A78A69E26D}"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E04DDF5B-901E-4F1D-AFDB-F32DCC2B8132}"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636AD653-6547-4FAD-8C39-DED1F90B6199}"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BF6E6636-6EE0-49FC-99A0-337441ED8FD5}"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462C4D55-7A71-43DC-ABB7-488A83CCB6F8}"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4DDAB6C0-C2C4-422E-BB88-3444A30666A0}"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D4C8FFD0-89EE-4A01-AB32-8D87DD7A15D7}"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1E5B3D2C-6030-4247-B2B9-F74C8E476F47}"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DC952882-E45D-498F-8492-E1F0618FE7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868F318-8E84-4A74-8A7A-3F34C56FAEF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F5D2A8A-0138-4494-B48C-0E332F0246D9}"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8119678A-06E1-4B0D-A63E-C8E1E1B4378C}"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6BD4DE8B-AE81-460A-9EB6-DAC8ECD473EE}"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17B68383-25BA-4092-BE10-3E75B9BE5A04}"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7C39CCAE-80B0-42DC-9EDD-2C2E0C84998D}"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FA654C1B-83ED-42F7-939F-8F24C2491ED4}"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F16E3448-63C8-4CD6-AA9C-BB4C89637B36}"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0402163B-4D65-477C-B7F1-C91F9361C7AF}"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EFA5897C-F3EE-48C1-957E-1E329E24D805}"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B27564DE-E952-4F1D-8B9F-C96348BABFFD}"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78DB9F10-B4AC-44CD-894A-29163340AEE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60353C6-4F86-4F44-9781-15BEBBAA406E}"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AD3F4E4E-F00B-46AC-9D0E-8704EE6B4DF6}"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7C4858AE-4B6B-4E25-BFA8-43EF56DD9C1D}"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4E85C434-26D0-4675-8C8B-BF9DA0A33F3D}"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34836F12-311B-4866-A48A-1C35540B8D4E}"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41679460-6C4D-4AAF-A16C-84FD6DF02E9C}"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27112D98-5450-411B-9797-9E86E52CDD8D}"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59391232-416E-48EA-8C1C-AFB4A3DB7F6E}"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3FA45477-A3C0-470F-8FD8-07097CA1914F}"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81E84F4A-3E86-4264-97C6-FEE1E69EE770}"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DD789E97-B240-436F-BBAB-ADA5EA80617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165D42A-0A75-4EF5-A1DB-CE3A579F6041}"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BAD70C7A-785D-42F5-81EC-6E997AE44298}"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1172E745-95CA-4F1E-87B2-A4BE0FE18603}"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60F31E87-BCE6-47FA-90C8-E0F9C62D85F3}"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C38A6A9D-3714-4084-8652-F22F64BC0F48}"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A0B12277-0E3E-4EA4-A252-DE997198B0D8}"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1FB7538C-057C-4B1D-B678-EDC300B893F1}"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792CAFC6-82DC-4F44-B719-09103BE27787}"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255F8E00-9AAB-407E-A44A-3D71E6DF8F99}"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6E30A6A0-EEA7-4C8D-9273-254DFBBE9A42}"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DDE52FC5-7C3A-4C5D-BBC3-B47611273DB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EA2B1C6-193A-4F11-ABEF-C938090F6DD6}"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14BD785E-965D-4CB3-AED1-D35251D4416A}"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33F7BCCD-5ADE-4AA8-8767-9BD65A9E3645}"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BAC7690E-E28A-4F78-BD22-5E415EC4B13B}"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F1045CEB-F561-405C-9E02-87B2A6B64770}"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4CCC42AD-9932-40F9-B64E-F067463111C8}"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A3A10ACC-84D9-4919-BC5E-ADFD639F93CB}"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3F900ECA-7D4D-4CA5-B867-D89BF0F4ECB0}"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088336FC-8D23-44EC-9C83-38BE498D0A99}"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E92F264C-7803-4CED-9C84-BF947A57C6A0}"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C87E4D27-BC34-48A9-8573-F28999D9A18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375308F-1BEF-4537-8C35-ABCDE933D18E}"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A0F8B8AE-BF3C-4CCA-8627-80B5BF04CE1B}"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26CD00DD-E386-46DA-A3A2-29B3369740E3}"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A1D5EA37-E3E6-4ECD-ADC0-7BDCB04AFE2F}"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611D1214-CD05-407D-BDFC-A3ED63EC8B4B}"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6AC3451E-6649-415B-88D7-8F59808FBEF9}"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A7B0D423-71F6-402A-9ED7-AE0AE47BDB03}"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B750D046-EDF7-4C04-87CF-9A80198A5454}"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5AB83063-0DE2-48A0-8C22-A16D4E70700C}"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63B34AD1-20E8-4B1E-904E-34FA5694BB95}"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DC0FD73C-75DF-40F9-905A-D89ECFE5A5A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AB0A1856-C1B4-4700-B41B-50C76711946E}"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F1A48A4F-85E9-46B1-B816-2AFB9D4446C8}"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5B286D41-BB46-4DB3-A43F-E3C72CE8EFC5}"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1B582BAB-BB36-4B7E-A506-0B020BBA41D5}"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37E10AA3-907B-43EB-9190-B10E9E94E704}"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CBA1D67A-A8D8-4A3A-ABB5-B1EE81CC3789}"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080709B3-0E47-4FA3-8AF0-33C15586BB2E}"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FCF2EF67-D9F2-4B4A-86B3-610B120A6195}"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B6CFFA42-A4FC-4FAA-BD61-C121AE01DF40}"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F3E9B35B-114D-4C2F-94B2-00818B33FB48}"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C229A0E7-C931-4C29-AA82-4470E726187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E4BF4E5C-CE99-43FE-8060-B76BE956FB8A}"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7752F5E9-AFC6-422F-9464-004E951760E0}"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3D096034-2BED-48F6-B8BF-6FB1F29DE8D2}"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C793C609-B74A-4B40-9559-4F33BC130DD9}"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7BB00691-0213-4D7A-A92C-1FEB5422F0C7}"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FCBE8F67-9671-4354-B028-BBDC18EDBAD1}"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D547AACA-E3AB-470B-89EF-4A031491AE83}"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B99F1A77-F76B-4C6B-BAB4-AE194FBA01AC}"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808A1AEE-83A6-464E-87A5-FA72DD988B83}"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BAF63705-764F-4F3B-AE7F-0DC8611F9F4F}"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6B409434-8E31-4B64-BE2E-26CCC98B6E1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3736A1F-21BC-4B6A-A7F3-10B84F1F5E6B}"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21D2F2B9-98C9-439E-AD85-10F4269BEE3A}"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29B27C33-5C01-4FE3-8D30-FFBC43C8C015}"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D8F87345-641D-461A-AE74-FE49FBB80570}"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0E3191E2-3C79-4D0A-949B-AC4EC4B2E777}"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E11DE4CB-7CBE-4732-9337-2C19A0F5F323}"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0F633DE0-4C03-4E65-A841-6FCD1F5507CD}"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580865E9-CEA4-40C4-842D-AF56C9765E18}"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4DB8F1C8-582B-42BF-81D1-BF56CA76E98B}"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0498C356-C00C-4EBB-8BD1-5C22452C763F}"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FC420252-E53D-4B84-8A31-6BCA186F88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0F5E846-C501-4617-9026-0362575364FE}"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8B3A68EB-4EB5-4AA5-AFE8-D3155B6E8721}"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8021CD69-666B-476B-9B44-DD4313054DA7}"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EB6F4A06-CC67-4451-AB71-7B55A37FFCE9}"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13C7B82A-EB78-45D2-A7EC-F8356F70A9A9}"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E17F6CCF-7B13-4316-99E7-281D97E4740C}"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7C655AB3-ECDF-4AB9-947D-7CE3C457309B}"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C7FC1D30-D5E0-4DE4-9486-D84F828AD8E0}"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8E21EAB6-D797-429E-882A-3A7BB4EFE99E}"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A7B9BCC4-76FF-43FB-B039-F7D411295A0F}"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104B14BF-ED32-4B46-93EC-3E628FDEA7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0D9100C-5179-4779-8D8D-F71D184CAE85}"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7815EC25-6D52-4005-83FE-D72E4CBBBA6E}"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E05B2B04-03AE-4B08-8D86-103C6BA02507}"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B7B452F8-96AE-41B4-96DD-9A902DDE4BE5}"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ACECCE20-6925-463A-8F1D-A3A76B0ABC23}"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CD5E23AA-5797-4FB8-AC0E-1CD252FD0378}"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44C5D852-C48A-4E4C-9D42-834FBA26F472}"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3EE6BBAB-12D4-4C2E-85EC-7453071B5CC4}"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FC6C8B32-452D-402A-954B-074ED3B2C8C5}"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A69AACC8-FDE0-42A7-A8FB-C6DEE15850C1}"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C2877BBA-B813-42D2-B365-ED2225FFAF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1BDFC-E40A-4DBC-ADED-84A60CCD52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E90B1-8735-45CB-9D78-009BA1B01A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7F888-F74B-4791-BEF7-3FD2889842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5772C-79E9-466D-94E2-710D706037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12654-B1DE-43DB-9B3A-228E7AE2F0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CA10E-4073-4E85-AA92-D870B8F505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5E047-B5C6-4E8D-B604-CD6995C14C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9E4A3-30A6-45F6-8BFE-A1BF59F2DA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DAF12-07E8-4351-8048-94D3C8DD9B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8D893-0D35-4DDC-8306-B5278B3088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5BA72-7514-428E-8172-8199B48C14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1DCDE-5C8D-4CD7-BB1D-D6C4B276F3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6A829-4692-4417-AC19-A026D67C2F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E023F-2949-4267-BF3C-5876FAFF0F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C4826-8A51-415E-A179-67B3866603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A7219-1DA3-4785-882F-013E82F331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89D5F-75A0-4E3B-AE0B-EA0AE5A17F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5BE77-DA4B-46ED-A452-9E41814D95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2CC12-8739-4C93-B2F9-1EE6D8B5F7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5D833E-FFD3-4E3F-89C2-202203E6E4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19467-A4B8-4864-9C85-BE235CF45F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8E17F-7943-4C1F-8BFA-A24B568F35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DDFE30-FC71-41B0-B610-052E6D1A72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2B664-9D95-4376-B478-838DC3F10D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8B603-68B5-4DE2-8D7E-5A474EC30A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17056-5AC8-4F74-B6E4-B20A92D3E3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BB85D5-535C-4569-87A3-576AFFB4A7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7073AD-783C-45AA-A5B1-4D95174EDA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5DDC58-C1DE-468B-B0D8-E6881F78F7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35477-C949-4BF6-B76D-6F5A2CBA52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8E788-45B5-4792-A4F6-2A9EC2764E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3EA51-D4A4-49F0-9BE7-0E3C4C1468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5A1A4-A569-4AB8-8276-D929903626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5EBFF-2CBA-473E-B3D7-C931169A10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D5CC9-E0A6-4CB8-82F4-0A9510C9E53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83743-D23F-4769-AF87-66F34B9FF8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FBB63-DB33-4880-A88B-EC6F906C4D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52D535-184D-44E9-A006-EC08DA4DA4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FC71C-A3CF-4822-9CAE-AC9902AD6E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9A937-2904-433F-9663-5AD5CA7401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7F4463-41B4-42E3-8688-CC1144467E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BDA4F-BBC7-4E3F-9EF4-6151F3F177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158F14-243A-4333-A99E-C06B2CFAB0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D19A1-5B83-4728-9535-478733788C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7A9B4-A1FA-4749-BBF6-F2E008308F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0765C-D76D-4240-9F88-AFEF13B9BB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8CFD68-278E-4A8E-B22B-AC16855886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0DCE8-7767-4FEF-8A2C-C88E386175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8FBB1E-C6FE-4E22-877F-5E7E936A5D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6442E-17D9-4229-B673-846D5D50F1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B9728D-A472-41A0-BBEF-9B5704255C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E21243-2A44-4617-8E4D-2E37F0E9D8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485CB-B2D9-4AF3-972B-6EFACA77399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B9B8E-0DE1-44C4-9392-B18FE2F1D2D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D2061-2C03-441B-A277-707E34D1EAD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74B82-006D-47ED-9A07-61E8B6744C4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A5098E-F150-457A-8A12-01E6C423D8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41372-6166-4D90-B830-21FAC41472F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E5AB7-5747-49B9-8B22-0AA277E9A73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88BDB-8020-4067-AEEF-09AE2B58553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5A039-D21A-406D-95B8-5D4B3ECBC0A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7A747-9E05-42F1-92E0-1F507F9F9A0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71E846-642E-452D-9231-E1DE9DDACBE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CD6F98-FD93-4821-80C8-0F31BC9FFDE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288CA-6740-47B0-A0DE-780A2EE36B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F6CD3-0FC7-418B-A12C-B3AA8F2501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E914ED-7B54-4DD4-B8B2-3D015E8195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D517A-509F-46C6-9C56-0EB6AC037F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B84BC5-1C49-4EBF-A1D2-3E6D977987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F50374-AA6A-4EB8-A4CC-0AE69CF9AD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35448C-A59E-489B-9356-392847FA34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7E666-5DA5-4702-AA29-84E1C6E898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707126-70BC-4B65-889B-31F0E331B4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14016-DB69-4092-98CB-DE3F645C03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71910-2BB8-4B6D-BE5D-EB8F489644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92D1F0-D525-452C-9CEF-EB28B04C6D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06742-910D-4D33-AA94-9C00956EEA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B9846-B31A-459F-9460-5CEB2EDD24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96CBAA-1B36-493E-AF11-61346B6875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C2912-99A9-48C8-BAE5-FC78AA945D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218A9-02C6-47E4-A8CF-CF203E7B4E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EBCEA-B050-4D56-B508-CA535DD6F0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4ABCE-2D25-42B2-BB8F-B371EEC4D3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0C869F-0F25-4A9D-BAC0-FDADD51195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829165-2F11-4AA5-965C-F6D8D56B97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4F9EB-8A9F-4467-8826-8F6AFE8633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3BB93-B0F8-48B9-9701-38DD5D537E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89434-9DF2-4734-8EA5-38036ADF37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231D1-9F1C-49AC-8884-263C59DB4D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81FAE-DD9D-49F9-855F-11063B279D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10698-5934-4B56-92C6-02A3716729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7811E-753B-4263-9487-14B6D431B3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CEE73-2CB1-4102-B396-7625F50DAE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78AAB-29AD-47C5-8177-8BA9AFB97D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DBA26-45F5-4576-8B6B-7113BED68C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3E6AA-F822-4634-AFED-2D0F5307B8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F1223-A676-43C1-8656-ED4A48B08A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1CDBD-2412-4742-9378-E9880A6611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24FAF5-01AA-4891-B9EF-7C45C1C8D1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2ACC7-F2EB-4A36-A4FA-3A1F67F36F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DB207-5D0B-40C9-876E-F3620AA7A9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835323-3E99-469A-8E41-6FEA4B302E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89B074-DE05-42FC-A6F4-9E5A5E1292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03D50-FE73-4A2F-BF3E-480FBC2E40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951CB-05C2-4B23-822A-8BD4FC5798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982851-E955-4CB6-BD96-F2E7AA06FD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007F93-306C-4C3C-8DCE-763005659A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FAAE8-0947-4EA1-8C5E-177E4181A9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E55EFD-A727-4016-A312-86EFB9430E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F479E-15D7-44B2-B831-D16D92B513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B901C2-2D97-4C85-9711-BBDA3BF6E9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CC243-F0D9-4501-B9F3-4CAEE8875F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7BE21-73E2-44FD-AFE7-C33EFAE36F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4332B-F599-41D3-B3BD-1141652453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ACDF8D-B84D-4F54-B1CC-08F23A19A2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29904-3D75-4D41-8BA6-C2DC1988BA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E167AF-9E92-4DD4-AF7D-C7244C882F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21817-E5C3-493A-B967-72B0AC5E46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C8AD2-4F41-44AE-91C5-4737E79573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E00507-F24D-4145-9544-11278010E6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22BA5-BA64-45A5-9F1C-5E45F32187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F207E-EDA5-405A-99B1-90FB476D1A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2D861-9177-4C64-B630-3DAD76CD16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D1B202-6CFE-45EB-B005-C28E89D357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1ECE9-0557-48DE-B58D-C36AC4CDA9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1FBA34-B895-4C59-A330-D287E472C2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C343C-EA70-4FC6-9D24-25C4FFB346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B03C2-41ED-40F3-BD00-194FAACC84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774B0-8797-423C-8638-EA90CA58EB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D9E591-44AA-4717-B785-E792DD5F86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CE472-97BF-4F9F-92C0-269CC70024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E8D26-4A76-441B-8333-65EB1DB355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4E96C2-B025-4320-ADDB-4F7ED6CB6E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2FA73-CADC-4CB5-9FC9-185BF6DF74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ECA05-A960-4D94-BEFA-D894436618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52D36-FEB2-4AED-B4BF-07781EC990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3FFCB-5ED0-4E6A-8BEA-00211DBB2F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4EAFD-80DF-479E-9121-744AB7380B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0A0B0-B3C0-41D6-9433-56534A5498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2B0C2-8B9E-49F5-AB83-FE18A7F39E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EE34B5-E992-4E35-9690-96F757F804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3CB65-F54A-4CFB-A282-6251E3A6C3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915908-CAB0-4920-B0F3-011CD50B4C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7D7E7-C553-491E-8DD8-BC6E1F9D6D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54E3D-B2F8-484C-BFE8-4C8566867F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FB523-4689-40B9-92DC-7903F6C9FF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CBA64-4CAE-42EC-B8A2-894BAF4099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9C54FB-2081-49F0-90A9-B238EBB43B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A259C0-33B3-4F71-8092-BAF6EADCF2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30DDC-04DF-409C-BE6B-FA4DB97BD6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7EF04-80B9-4B99-8977-1997BDFFFD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37AA14-C7C5-4515-96F7-E5F4A60935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2BA68-E0D2-490E-91C0-9891877528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64F93-042E-4900-9F92-A899EA4DD8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54C02-7D2D-43EC-BB40-857B90A927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499C8-C930-48B2-8C1B-83D3CD9E80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395280" y="773280"/>
            <a:ext cx="8353440" cy="503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91" name="Group 1"/>
          <p:cNvGrpSpPr/>
          <p:nvPr/>
        </p:nvGrpSpPr>
        <p:grpSpPr>
          <a:xfrm>
            <a:off x="0" y="115920"/>
            <a:ext cx="9140760" cy="6548400"/>
            <a:chOff x="0" y="115920"/>
            <a:chExt cx="9140760" cy="6548400"/>
          </a:xfrm>
        </p:grpSpPr>
        <p:grpSp>
          <p:nvGrpSpPr>
            <p:cNvPr id="6492" name="Group 2"/>
            <p:cNvGrpSpPr/>
            <p:nvPr/>
          </p:nvGrpSpPr>
          <p:grpSpPr>
            <a:xfrm>
              <a:off x="0" y="115920"/>
              <a:ext cx="9140760" cy="6548400"/>
              <a:chOff x="0" y="115920"/>
              <a:chExt cx="9140760" cy="6548400"/>
            </a:xfrm>
          </p:grpSpPr>
          <p:sp>
            <p:nvSpPr>
              <p:cNvPr id="649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8" name="Picture 8" descr=""/>
          <p:cNvPicPr/>
          <p:nvPr/>
        </p:nvPicPr>
        <p:blipFill>
          <a:blip r:embed="rId3"/>
          <a:stretch/>
        </p:blipFill>
        <p:spPr>
          <a:xfrm>
            <a:off x="250920" y="333360"/>
            <a:ext cx="1417680" cy="879480"/>
          </a:xfrm>
          <a:prstGeom prst="rect">
            <a:avLst/>
          </a:prstGeom>
          <a:ln w="0">
            <a:noFill/>
          </a:ln>
        </p:spPr>
      </p:pic>
      <p:sp>
        <p:nvSpPr>
          <p:cNvPr id="6499" name="Text Box 9"/>
          <p:cNvSpPr/>
          <p:nvPr/>
        </p:nvSpPr>
        <p:spPr>
          <a:xfrm>
            <a:off x="395280" y="1938240"/>
            <a:ext cx="8280360" cy="26161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800"/>
            </a:b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00" name="Group 1"/>
          <p:cNvGrpSpPr/>
          <p:nvPr/>
        </p:nvGrpSpPr>
        <p:grpSpPr>
          <a:xfrm>
            <a:off x="0" y="115920"/>
            <a:ext cx="9140760" cy="6548400"/>
            <a:chOff x="0" y="115920"/>
            <a:chExt cx="9140760" cy="6548400"/>
          </a:xfrm>
        </p:grpSpPr>
        <p:grpSp>
          <p:nvGrpSpPr>
            <p:cNvPr id="6501" name="Group 2"/>
            <p:cNvGrpSpPr/>
            <p:nvPr/>
          </p:nvGrpSpPr>
          <p:grpSpPr>
            <a:xfrm>
              <a:off x="0" y="115920"/>
              <a:ext cx="9140760" cy="6548400"/>
              <a:chOff x="0" y="115920"/>
              <a:chExt cx="9140760" cy="6548400"/>
            </a:xfrm>
          </p:grpSpPr>
          <p:sp>
            <p:nvSpPr>
              <p:cNvPr id="650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6"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7" name="Picture 8" descr=""/>
          <p:cNvPicPr/>
          <p:nvPr/>
        </p:nvPicPr>
        <p:blipFill>
          <a:blip r:embed="rId3"/>
          <a:stretch/>
        </p:blipFill>
        <p:spPr>
          <a:xfrm>
            <a:off x="250920" y="333360"/>
            <a:ext cx="1417680" cy="879480"/>
          </a:xfrm>
          <a:prstGeom prst="rect">
            <a:avLst/>
          </a:prstGeom>
          <a:ln w="0">
            <a:noFill/>
          </a:ln>
        </p:spPr>
      </p:pic>
      <p:sp>
        <p:nvSpPr>
          <p:cNvPr id="6508" name="Text Box 9"/>
          <p:cNvSpPr/>
          <p:nvPr/>
        </p:nvSpPr>
        <p:spPr>
          <a:xfrm>
            <a:off x="611280" y="1076400"/>
            <a:ext cx="8064360" cy="43401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539640" y="1392120"/>
            <a:ext cx="813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611280" y="1392120"/>
            <a:ext cx="8137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27" name="Group 1"/>
          <p:cNvGrpSpPr/>
          <p:nvPr/>
        </p:nvGrpSpPr>
        <p:grpSpPr>
          <a:xfrm>
            <a:off x="0" y="115920"/>
            <a:ext cx="9140760" cy="6548400"/>
            <a:chOff x="0" y="115920"/>
            <a:chExt cx="9140760" cy="6548400"/>
          </a:xfrm>
        </p:grpSpPr>
        <p:grpSp>
          <p:nvGrpSpPr>
            <p:cNvPr id="6528" name="Group 2"/>
            <p:cNvGrpSpPr/>
            <p:nvPr/>
          </p:nvGrpSpPr>
          <p:grpSpPr>
            <a:xfrm>
              <a:off x="0" y="115920"/>
              <a:ext cx="9140760" cy="6548400"/>
              <a:chOff x="0" y="115920"/>
              <a:chExt cx="9140760" cy="6548400"/>
            </a:xfrm>
          </p:grpSpPr>
          <p:sp>
            <p:nvSpPr>
              <p:cNvPr id="652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3"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4" name="Picture 8" descr=""/>
          <p:cNvPicPr/>
          <p:nvPr/>
        </p:nvPicPr>
        <p:blipFill>
          <a:blip r:embed="rId3"/>
          <a:stretch/>
        </p:blipFill>
        <p:spPr>
          <a:xfrm>
            <a:off x="250920" y="333360"/>
            <a:ext cx="1417680" cy="879480"/>
          </a:xfrm>
          <a:prstGeom prst="rect">
            <a:avLst/>
          </a:prstGeom>
          <a:ln w="0">
            <a:noFill/>
          </a:ln>
        </p:spPr>
      </p:pic>
      <p:sp>
        <p:nvSpPr>
          <p:cNvPr id="6535" name="Text Box 9"/>
          <p:cNvSpPr/>
          <p:nvPr/>
        </p:nvSpPr>
        <p:spPr>
          <a:xfrm>
            <a:off x="395280" y="1711440"/>
            <a:ext cx="8064360" cy="2651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36" name="Group 1"/>
          <p:cNvGrpSpPr/>
          <p:nvPr/>
        </p:nvGrpSpPr>
        <p:grpSpPr>
          <a:xfrm>
            <a:off x="0" y="115920"/>
            <a:ext cx="9140760" cy="6548400"/>
            <a:chOff x="0" y="115920"/>
            <a:chExt cx="9140760" cy="6548400"/>
          </a:xfrm>
        </p:grpSpPr>
        <p:grpSp>
          <p:nvGrpSpPr>
            <p:cNvPr id="6537" name="Group 2"/>
            <p:cNvGrpSpPr/>
            <p:nvPr/>
          </p:nvGrpSpPr>
          <p:grpSpPr>
            <a:xfrm>
              <a:off x="0" y="115920"/>
              <a:ext cx="9140760" cy="6548400"/>
              <a:chOff x="0" y="115920"/>
              <a:chExt cx="9140760" cy="6548400"/>
            </a:xfrm>
          </p:grpSpPr>
          <p:sp>
            <p:nvSpPr>
              <p:cNvPr id="653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2"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3" name="Picture 8" descr=""/>
          <p:cNvPicPr/>
          <p:nvPr/>
        </p:nvPicPr>
        <p:blipFill>
          <a:blip r:embed="rId3"/>
          <a:stretch/>
        </p:blipFill>
        <p:spPr>
          <a:xfrm>
            <a:off x="250920" y="333360"/>
            <a:ext cx="1417680" cy="879480"/>
          </a:xfrm>
          <a:prstGeom prst="rect">
            <a:avLst/>
          </a:prstGeom>
          <a:ln w="0">
            <a:noFill/>
          </a:ln>
        </p:spPr>
      </p:pic>
      <p:sp>
        <p:nvSpPr>
          <p:cNvPr id="6544" name="Text Box 9"/>
          <p:cNvSpPr/>
          <p:nvPr/>
        </p:nvSpPr>
        <p:spPr>
          <a:xfrm>
            <a:off x="395280" y="1482840"/>
            <a:ext cx="8209080" cy="31082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5" name="Group 1"/>
          <p:cNvGrpSpPr/>
          <p:nvPr/>
        </p:nvGrpSpPr>
        <p:grpSpPr>
          <a:xfrm>
            <a:off x="0" y="190440"/>
            <a:ext cx="9140760" cy="6548400"/>
            <a:chOff x="0" y="190440"/>
            <a:chExt cx="9140760" cy="6548400"/>
          </a:xfrm>
        </p:grpSpPr>
        <p:grpSp>
          <p:nvGrpSpPr>
            <p:cNvPr id="6546" name="Group 2"/>
            <p:cNvGrpSpPr/>
            <p:nvPr/>
          </p:nvGrpSpPr>
          <p:grpSpPr>
            <a:xfrm>
              <a:off x="0" y="190440"/>
              <a:ext cx="9140760" cy="6548400"/>
              <a:chOff x="0" y="190440"/>
              <a:chExt cx="9140760" cy="6548400"/>
            </a:xfrm>
          </p:grpSpPr>
          <p:sp>
            <p:nvSpPr>
              <p:cNvPr id="6547" name="Line 3"/>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8" name="Rectangle 4"/>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9" name="Rectangle 5"/>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0" name="Line 6"/>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1"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2" name="Picture 8" descr=""/>
          <p:cNvPicPr/>
          <p:nvPr/>
        </p:nvPicPr>
        <p:blipFill>
          <a:blip r:embed="rId3"/>
          <a:stretch/>
        </p:blipFill>
        <p:spPr>
          <a:xfrm>
            <a:off x="250920" y="333360"/>
            <a:ext cx="1417680" cy="879480"/>
          </a:xfrm>
          <a:prstGeom prst="rect">
            <a:avLst/>
          </a:prstGeom>
          <a:ln w="0">
            <a:noFill/>
          </a:ln>
        </p:spPr>
      </p:pic>
      <p:sp>
        <p:nvSpPr>
          <p:cNvPr id="6553" name="Text Box 9"/>
          <p:cNvSpPr/>
          <p:nvPr/>
        </p:nvSpPr>
        <p:spPr>
          <a:xfrm>
            <a:off x="468360" y="944640"/>
            <a:ext cx="7991280" cy="440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547640" y="2276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2" name="Group 1"/>
          <p:cNvGrpSpPr/>
          <p:nvPr/>
        </p:nvGrpSpPr>
        <p:grpSpPr>
          <a:xfrm>
            <a:off x="0" y="115920"/>
            <a:ext cx="9140760" cy="6548400"/>
            <a:chOff x="0" y="115920"/>
            <a:chExt cx="9140760" cy="6548400"/>
          </a:xfrm>
        </p:grpSpPr>
        <p:grpSp>
          <p:nvGrpSpPr>
            <p:cNvPr id="6573" name="Group 2"/>
            <p:cNvGrpSpPr/>
            <p:nvPr/>
          </p:nvGrpSpPr>
          <p:grpSpPr>
            <a:xfrm>
              <a:off x="0" y="115920"/>
              <a:ext cx="9140760" cy="6548400"/>
              <a:chOff x="0" y="115920"/>
              <a:chExt cx="9140760" cy="6548400"/>
            </a:xfrm>
          </p:grpSpPr>
          <p:sp>
            <p:nvSpPr>
              <p:cNvPr id="657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9" name="Picture 8" descr=""/>
          <p:cNvPicPr/>
          <p:nvPr/>
        </p:nvPicPr>
        <p:blipFill>
          <a:blip r:embed="rId3"/>
          <a:stretch/>
        </p:blipFill>
        <p:spPr>
          <a:xfrm>
            <a:off x="250920" y="333360"/>
            <a:ext cx="1417680" cy="879480"/>
          </a:xfrm>
          <a:prstGeom prst="rect">
            <a:avLst/>
          </a:prstGeom>
          <a:ln w="0">
            <a:noFill/>
          </a:ln>
        </p:spPr>
      </p:pic>
      <p:sp>
        <p:nvSpPr>
          <p:cNvPr id="6580" name="Text Box 9"/>
          <p:cNvSpPr/>
          <p:nvPr/>
        </p:nvSpPr>
        <p:spPr>
          <a:xfrm>
            <a:off x="539640" y="1473120"/>
            <a:ext cx="820908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81" name="Group 1"/>
          <p:cNvGrpSpPr/>
          <p:nvPr/>
        </p:nvGrpSpPr>
        <p:grpSpPr>
          <a:xfrm>
            <a:off x="0" y="115920"/>
            <a:ext cx="9140760" cy="6548400"/>
            <a:chOff x="0" y="115920"/>
            <a:chExt cx="9140760" cy="6548400"/>
          </a:xfrm>
        </p:grpSpPr>
        <p:grpSp>
          <p:nvGrpSpPr>
            <p:cNvPr id="6582" name="Group 2"/>
            <p:cNvGrpSpPr/>
            <p:nvPr/>
          </p:nvGrpSpPr>
          <p:grpSpPr>
            <a:xfrm>
              <a:off x="0" y="115920"/>
              <a:ext cx="9140760" cy="6548400"/>
              <a:chOff x="0" y="115920"/>
              <a:chExt cx="9140760" cy="6548400"/>
            </a:xfrm>
          </p:grpSpPr>
          <p:sp>
            <p:nvSpPr>
              <p:cNvPr id="658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7"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8" name="Picture 8" descr=""/>
          <p:cNvPicPr/>
          <p:nvPr/>
        </p:nvPicPr>
        <p:blipFill>
          <a:blip r:embed="rId3"/>
          <a:stretch/>
        </p:blipFill>
        <p:spPr>
          <a:xfrm>
            <a:off x="250920" y="333360"/>
            <a:ext cx="1417680" cy="879480"/>
          </a:xfrm>
          <a:prstGeom prst="rect">
            <a:avLst/>
          </a:prstGeom>
          <a:ln w="0">
            <a:noFill/>
          </a:ln>
        </p:spPr>
      </p:pic>
      <p:sp>
        <p:nvSpPr>
          <p:cNvPr id="6589" name="Text Box 9"/>
          <p:cNvSpPr/>
          <p:nvPr/>
        </p:nvSpPr>
        <p:spPr>
          <a:xfrm>
            <a:off x="539640" y="1511280"/>
            <a:ext cx="7920000" cy="26766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90" name="Group 1"/>
          <p:cNvGrpSpPr/>
          <p:nvPr/>
        </p:nvGrpSpPr>
        <p:grpSpPr>
          <a:xfrm>
            <a:off x="0" y="115920"/>
            <a:ext cx="9140760" cy="6548400"/>
            <a:chOff x="0" y="115920"/>
            <a:chExt cx="9140760" cy="6548400"/>
          </a:xfrm>
        </p:grpSpPr>
        <p:grpSp>
          <p:nvGrpSpPr>
            <p:cNvPr id="6591" name="Group 2"/>
            <p:cNvGrpSpPr/>
            <p:nvPr/>
          </p:nvGrpSpPr>
          <p:grpSpPr>
            <a:xfrm>
              <a:off x="0" y="115920"/>
              <a:ext cx="9140760" cy="6548400"/>
              <a:chOff x="0" y="115920"/>
              <a:chExt cx="9140760" cy="6548400"/>
            </a:xfrm>
          </p:grpSpPr>
          <p:sp>
            <p:nvSpPr>
              <p:cNvPr id="659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6" name="Rectangle 7"/>
          <p:cNvSpPr/>
          <p:nvPr/>
        </p:nvSpPr>
        <p:spPr>
          <a:xfrm>
            <a:off x="611280" y="1701720"/>
            <a:ext cx="8277120" cy="446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7" name="Picture 8" descr=""/>
          <p:cNvPicPr/>
          <p:nvPr/>
        </p:nvPicPr>
        <p:blipFill>
          <a:blip r:embed="rId3"/>
          <a:stretch/>
        </p:blipFill>
        <p:spPr>
          <a:xfrm>
            <a:off x="250920" y="333360"/>
            <a:ext cx="1417680" cy="879480"/>
          </a:xfrm>
          <a:prstGeom prst="rect">
            <a:avLst/>
          </a:prstGeom>
          <a:ln w="0">
            <a:noFill/>
          </a:ln>
        </p:spPr>
      </p:pic>
      <p:sp>
        <p:nvSpPr>
          <p:cNvPr id="6598" name="Text Box 9"/>
          <p:cNvSpPr/>
          <p:nvPr/>
        </p:nvSpPr>
        <p:spPr>
          <a:xfrm>
            <a:off x="395280" y="2465280"/>
            <a:ext cx="8209080" cy="2246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99" name="Group 1"/>
          <p:cNvGrpSpPr/>
          <p:nvPr/>
        </p:nvGrpSpPr>
        <p:grpSpPr>
          <a:xfrm>
            <a:off x="0" y="115920"/>
            <a:ext cx="9140760" cy="6548400"/>
            <a:chOff x="0" y="115920"/>
            <a:chExt cx="9140760" cy="6548400"/>
          </a:xfrm>
        </p:grpSpPr>
        <p:grpSp>
          <p:nvGrpSpPr>
            <p:cNvPr id="6600" name="Group 2"/>
            <p:cNvGrpSpPr/>
            <p:nvPr/>
          </p:nvGrpSpPr>
          <p:grpSpPr>
            <a:xfrm>
              <a:off x="0" y="115920"/>
              <a:ext cx="9140760" cy="6548400"/>
              <a:chOff x="0" y="115920"/>
              <a:chExt cx="9140760" cy="6548400"/>
            </a:xfrm>
          </p:grpSpPr>
          <p:sp>
            <p:nvSpPr>
              <p:cNvPr id="6601"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2"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3"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4"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5" name="Rectangle 7"/>
          <p:cNvSpPr/>
          <p:nvPr/>
        </p:nvSpPr>
        <p:spPr>
          <a:xfrm>
            <a:off x="611280" y="1628640"/>
            <a:ext cx="8277120" cy="446436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6" name="Picture 8" descr=""/>
          <p:cNvPicPr/>
          <p:nvPr/>
        </p:nvPicPr>
        <p:blipFill>
          <a:blip r:embed="rId3"/>
          <a:stretch/>
        </p:blipFill>
        <p:spPr>
          <a:xfrm>
            <a:off x="250920" y="333360"/>
            <a:ext cx="1417680" cy="879480"/>
          </a:xfrm>
          <a:prstGeom prst="rect">
            <a:avLst/>
          </a:prstGeom>
          <a:ln w="0">
            <a:noFill/>
          </a:ln>
        </p:spPr>
      </p:pic>
      <p:sp>
        <p:nvSpPr>
          <p:cNvPr id="6607" name="Text Box 9"/>
          <p:cNvSpPr/>
          <p:nvPr/>
        </p:nvSpPr>
        <p:spPr>
          <a:xfrm>
            <a:off x="395280" y="2033640"/>
            <a:ext cx="820908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8" name="Group 1"/>
          <p:cNvGrpSpPr/>
          <p:nvPr/>
        </p:nvGrpSpPr>
        <p:grpSpPr>
          <a:xfrm>
            <a:off x="0" y="115920"/>
            <a:ext cx="9140760" cy="6548400"/>
            <a:chOff x="0" y="115920"/>
            <a:chExt cx="9140760" cy="6548400"/>
          </a:xfrm>
        </p:grpSpPr>
        <p:grpSp>
          <p:nvGrpSpPr>
            <p:cNvPr id="6609" name="Group 2"/>
            <p:cNvGrpSpPr/>
            <p:nvPr/>
          </p:nvGrpSpPr>
          <p:grpSpPr>
            <a:xfrm>
              <a:off x="0" y="115920"/>
              <a:ext cx="9140760" cy="6548400"/>
              <a:chOff x="0" y="115920"/>
              <a:chExt cx="9140760" cy="6548400"/>
            </a:xfrm>
          </p:grpSpPr>
          <p:sp>
            <p:nvSpPr>
              <p:cNvPr id="661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4"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5" name="Picture 8" descr=""/>
          <p:cNvPicPr/>
          <p:nvPr/>
        </p:nvPicPr>
        <p:blipFill>
          <a:blip r:embed="rId3"/>
          <a:stretch/>
        </p:blipFill>
        <p:spPr>
          <a:xfrm>
            <a:off x="250920" y="333360"/>
            <a:ext cx="1417680" cy="879480"/>
          </a:xfrm>
          <a:prstGeom prst="rect">
            <a:avLst/>
          </a:prstGeom>
          <a:ln w="0">
            <a:noFill/>
          </a:ln>
        </p:spPr>
      </p:pic>
      <p:sp>
        <p:nvSpPr>
          <p:cNvPr id="6616" name="Text Box 9"/>
          <p:cNvSpPr/>
          <p:nvPr/>
        </p:nvSpPr>
        <p:spPr>
          <a:xfrm>
            <a:off x="971640" y="1603440"/>
            <a:ext cx="7488000" cy="3970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17" name="Group 1"/>
          <p:cNvGrpSpPr/>
          <p:nvPr/>
        </p:nvGrpSpPr>
        <p:grpSpPr>
          <a:xfrm>
            <a:off x="0" y="115920"/>
            <a:ext cx="9140760" cy="6548400"/>
            <a:chOff x="0" y="115920"/>
            <a:chExt cx="9140760" cy="6548400"/>
          </a:xfrm>
        </p:grpSpPr>
        <p:grpSp>
          <p:nvGrpSpPr>
            <p:cNvPr id="6618" name="Group 2"/>
            <p:cNvGrpSpPr/>
            <p:nvPr/>
          </p:nvGrpSpPr>
          <p:grpSpPr>
            <a:xfrm>
              <a:off x="0" y="115920"/>
              <a:ext cx="9140760" cy="6548400"/>
              <a:chOff x="0" y="115920"/>
              <a:chExt cx="9140760" cy="6548400"/>
            </a:xfrm>
          </p:grpSpPr>
          <p:sp>
            <p:nvSpPr>
              <p:cNvPr id="6619"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0"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1"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2"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3"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4" name="Picture 8" descr=""/>
          <p:cNvPicPr/>
          <p:nvPr/>
        </p:nvPicPr>
        <p:blipFill>
          <a:blip r:embed="rId3"/>
          <a:stretch/>
        </p:blipFill>
        <p:spPr>
          <a:xfrm>
            <a:off x="250920" y="333360"/>
            <a:ext cx="1417680" cy="879480"/>
          </a:xfrm>
          <a:prstGeom prst="rect">
            <a:avLst/>
          </a:prstGeom>
          <a:ln w="0">
            <a:noFill/>
          </a:ln>
        </p:spPr>
      </p:pic>
      <p:sp>
        <p:nvSpPr>
          <p:cNvPr id="6625" name="Text Box 9"/>
          <p:cNvSpPr/>
          <p:nvPr/>
        </p:nvSpPr>
        <p:spPr>
          <a:xfrm>
            <a:off x="395280" y="2249640"/>
            <a:ext cx="8064360" cy="2678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44" name="Group 1"/>
          <p:cNvGrpSpPr/>
          <p:nvPr/>
        </p:nvGrpSpPr>
        <p:grpSpPr>
          <a:xfrm>
            <a:off x="0" y="115920"/>
            <a:ext cx="9140760" cy="6548400"/>
            <a:chOff x="0" y="115920"/>
            <a:chExt cx="9140760" cy="6548400"/>
          </a:xfrm>
        </p:grpSpPr>
        <p:grpSp>
          <p:nvGrpSpPr>
            <p:cNvPr id="6645" name="Group 2"/>
            <p:cNvGrpSpPr/>
            <p:nvPr/>
          </p:nvGrpSpPr>
          <p:grpSpPr>
            <a:xfrm>
              <a:off x="0" y="115920"/>
              <a:ext cx="9140760" cy="6548400"/>
              <a:chOff x="0" y="115920"/>
              <a:chExt cx="9140760" cy="6548400"/>
            </a:xfrm>
          </p:grpSpPr>
          <p:sp>
            <p:nvSpPr>
              <p:cNvPr id="6646"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7"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8"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9"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0"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1" name="Picture 8" descr=""/>
          <p:cNvPicPr/>
          <p:nvPr/>
        </p:nvPicPr>
        <p:blipFill>
          <a:blip r:embed="rId3"/>
          <a:stretch/>
        </p:blipFill>
        <p:spPr>
          <a:xfrm>
            <a:off x="250920" y="333360"/>
            <a:ext cx="1417680" cy="879480"/>
          </a:xfrm>
          <a:prstGeom prst="rect">
            <a:avLst/>
          </a:prstGeom>
          <a:ln w="0">
            <a:noFill/>
          </a:ln>
        </p:spPr>
      </p:pic>
      <p:sp>
        <p:nvSpPr>
          <p:cNvPr id="6652" name="Text Box 9"/>
          <p:cNvSpPr/>
          <p:nvPr/>
        </p:nvSpPr>
        <p:spPr>
          <a:xfrm>
            <a:off x="539640" y="1819440"/>
            <a:ext cx="820908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863640" y="1392120"/>
            <a:ext cx="795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1" name="Group 1"/>
          <p:cNvGrpSpPr/>
          <p:nvPr/>
        </p:nvGrpSpPr>
        <p:grpSpPr>
          <a:xfrm>
            <a:off x="0" y="115920"/>
            <a:ext cx="9140760" cy="6548400"/>
            <a:chOff x="0" y="115920"/>
            <a:chExt cx="9140760" cy="6548400"/>
          </a:xfrm>
        </p:grpSpPr>
        <p:grpSp>
          <p:nvGrpSpPr>
            <p:cNvPr id="6672" name="Group 2"/>
            <p:cNvGrpSpPr/>
            <p:nvPr/>
          </p:nvGrpSpPr>
          <p:grpSpPr>
            <a:xfrm>
              <a:off x="0" y="115920"/>
              <a:ext cx="9140760" cy="6548400"/>
              <a:chOff x="0" y="115920"/>
              <a:chExt cx="9140760" cy="6548400"/>
            </a:xfrm>
          </p:grpSpPr>
          <p:sp>
            <p:nvSpPr>
              <p:cNvPr id="6673"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4"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5"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6"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7" name="Rectangle 7"/>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8" name="Picture 8" descr=""/>
          <p:cNvPicPr/>
          <p:nvPr/>
        </p:nvPicPr>
        <p:blipFill>
          <a:blip r:embed="rId3"/>
          <a:stretch/>
        </p:blipFill>
        <p:spPr>
          <a:xfrm>
            <a:off x="250920" y="333360"/>
            <a:ext cx="1417680" cy="879480"/>
          </a:xfrm>
          <a:prstGeom prst="rect">
            <a:avLst/>
          </a:prstGeom>
          <a:ln w="0">
            <a:noFill/>
          </a:ln>
        </p:spPr>
      </p:pic>
      <p:sp>
        <p:nvSpPr>
          <p:cNvPr id="6679" name="Text Box 9"/>
          <p:cNvSpPr/>
          <p:nvPr/>
        </p:nvSpPr>
        <p:spPr>
          <a:xfrm>
            <a:off x="1042920" y="1819440"/>
            <a:ext cx="741672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80" name="Group 1"/>
          <p:cNvGrpSpPr/>
          <p:nvPr/>
        </p:nvGrpSpPr>
        <p:grpSpPr>
          <a:xfrm>
            <a:off x="0" y="115920"/>
            <a:ext cx="9140760" cy="6548400"/>
            <a:chOff x="0" y="115920"/>
            <a:chExt cx="9140760" cy="6548400"/>
          </a:xfrm>
        </p:grpSpPr>
        <p:grpSp>
          <p:nvGrpSpPr>
            <p:cNvPr id="6681" name="Group 2"/>
            <p:cNvGrpSpPr/>
            <p:nvPr/>
          </p:nvGrpSpPr>
          <p:grpSpPr>
            <a:xfrm>
              <a:off x="0" y="115920"/>
              <a:ext cx="9140760" cy="6548400"/>
              <a:chOff x="0" y="115920"/>
              <a:chExt cx="9140760" cy="6548400"/>
            </a:xfrm>
          </p:grpSpPr>
          <p:sp>
            <p:nvSpPr>
              <p:cNvPr id="6682"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3"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4"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5"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6" name="Rectangle 7"/>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7" name="Picture 8" descr=""/>
          <p:cNvPicPr/>
          <p:nvPr/>
        </p:nvPicPr>
        <p:blipFill>
          <a:blip r:embed="rId3"/>
          <a:stretch/>
        </p:blipFill>
        <p:spPr>
          <a:xfrm>
            <a:off x="250920" y="333360"/>
            <a:ext cx="1417680" cy="879480"/>
          </a:xfrm>
          <a:prstGeom prst="rect">
            <a:avLst/>
          </a:prstGeom>
          <a:ln w="0">
            <a:noFill/>
          </a:ln>
        </p:spPr>
      </p:pic>
      <p:sp>
        <p:nvSpPr>
          <p:cNvPr id="6688" name="Text Box 9"/>
          <p:cNvSpPr/>
          <p:nvPr/>
        </p:nvSpPr>
        <p:spPr>
          <a:xfrm>
            <a:off x="1042920" y="2033640"/>
            <a:ext cx="741672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89" name="Group 1"/>
          <p:cNvGrpSpPr/>
          <p:nvPr/>
        </p:nvGrpSpPr>
        <p:grpSpPr>
          <a:xfrm>
            <a:off x="0" y="115920"/>
            <a:ext cx="9140760" cy="6548400"/>
            <a:chOff x="0" y="115920"/>
            <a:chExt cx="9140760" cy="6548400"/>
          </a:xfrm>
        </p:grpSpPr>
        <p:grpSp>
          <p:nvGrpSpPr>
            <p:cNvPr id="6690" name="Group 2"/>
            <p:cNvGrpSpPr/>
            <p:nvPr/>
          </p:nvGrpSpPr>
          <p:grpSpPr>
            <a:xfrm>
              <a:off x="0" y="115920"/>
              <a:ext cx="9140760" cy="6548400"/>
              <a:chOff x="0" y="115920"/>
              <a:chExt cx="9140760" cy="6548400"/>
            </a:xfrm>
          </p:grpSpPr>
          <p:sp>
            <p:nvSpPr>
              <p:cNvPr id="6691"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2"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3"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4"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5"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6" name="Picture 8" descr=""/>
          <p:cNvPicPr/>
          <p:nvPr/>
        </p:nvPicPr>
        <p:blipFill>
          <a:blip r:embed="rId3"/>
          <a:stretch/>
        </p:blipFill>
        <p:spPr>
          <a:xfrm>
            <a:off x="250920" y="333360"/>
            <a:ext cx="1417680" cy="879480"/>
          </a:xfrm>
          <a:prstGeom prst="rect">
            <a:avLst/>
          </a:prstGeom>
          <a:ln w="0">
            <a:noFill/>
          </a:ln>
        </p:spPr>
      </p:pic>
      <p:sp>
        <p:nvSpPr>
          <p:cNvPr id="6697" name="Text Box 9"/>
          <p:cNvSpPr/>
          <p:nvPr/>
        </p:nvSpPr>
        <p:spPr>
          <a:xfrm>
            <a:off x="971640" y="2465280"/>
            <a:ext cx="7488000" cy="2246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98" name="Group 1"/>
          <p:cNvGrpSpPr/>
          <p:nvPr/>
        </p:nvGrpSpPr>
        <p:grpSpPr>
          <a:xfrm>
            <a:off x="0" y="115920"/>
            <a:ext cx="9140760" cy="6548400"/>
            <a:chOff x="0" y="115920"/>
            <a:chExt cx="9140760" cy="6548400"/>
          </a:xfrm>
        </p:grpSpPr>
        <p:grpSp>
          <p:nvGrpSpPr>
            <p:cNvPr id="6699" name="Group 2"/>
            <p:cNvGrpSpPr/>
            <p:nvPr/>
          </p:nvGrpSpPr>
          <p:grpSpPr>
            <a:xfrm>
              <a:off x="0" y="115920"/>
              <a:ext cx="9140760" cy="6548400"/>
              <a:chOff x="0" y="115920"/>
              <a:chExt cx="9140760" cy="6548400"/>
            </a:xfrm>
          </p:grpSpPr>
          <p:sp>
            <p:nvSpPr>
              <p:cNvPr id="6700"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1"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2"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3"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4"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5" name="Picture 8" descr=""/>
          <p:cNvPicPr/>
          <p:nvPr/>
        </p:nvPicPr>
        <p:blipFill>
          <a:blip r:embed="rId3"/>
          <a:stretch/>
        </p:blipFill>
        <p:spPr>
          <a:xfrm>
            <a:off x="250920" y="333360"/>
            <a:ext cx="1417680" cy="879480"/>
          </a:xfrm>
          <a:prstGeom prst="rect">
            <a:avLst/>
          </a:prstGeom>
          <a:ln w="0">
            <a:noFill/>
          </a:ln>
        </p:spPr>
      </p:pic>
      <p:sp>
        <p:nvSpPr>
          <p:cNvPr id="6706" name="Text Box 9"/>
          <p:cNvSpPr/>
          <p:nvPr/>
        </p:nvSpPr>
        <p:spPr>
          <a:xfrm>
            <a:off x="971640" y="2465280"/>
            <a:ext cx="7632720" cy="2246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6" name="Group 1"/>
          <p:cNvGrpSpPr/>
          <p:nvPr/>
        </p:nvGrpSpPr>
        <p:grpSpPr>
          <a:xfrm>
            <a:off x="0" y="115920"/>
            <a:ext cx="9140760" cy="6548400"/>
            <a:chOff x="0" y="115920"/>
            <a:chExt cx="9140760" cy="6548400"/>
          </a:xfrm>
        </p:grpSpPr>
        <p:grpSp>
          <p:nvGrpSpPr>
            <p:cNvPr id="6717" name="Group 2"/>
            <p:cNvGrpSpPr/>
            <p:nvPr/>
          </p:nvGrpSpPr>
          <p:grpSpPr>
            <a:xfrm>
              <a:off x="0" y="115920"/>
              <a:ext cx="9140760" cy="6548400"/>
              <a:chOff x="0" y="115920"/>
              <a:chExt cx="9140760" cy="6548400"/>
            </a:xfrm>
          </p:grpSpPr>
          <p:sp>
            <p:nvSpPr>
              <p:cNvPr id="6718"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9"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0"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1"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2"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3" name="Picture 8" descr=""/>
          <p:cNvPicPr/>
          <p:nvPr/>
        </p:nvPicPr>
        <p:blipFill>
          <a:blip r:embed="rId3"/>
          <a:stretch/>
        </p:blipFill>
        <p:spPr>
          <a:xfrm>
            <a:off x="250920" y="333360"/>
            <a:ext cx="1417680" cy="879480"/>
          </a:xfrm>
          <a:prstGeom prst="rect">
            <a:avLst/>
          </a:prstGeom>
          <a:ln w="0">
            <a:noFill/>
          </a:ln>
        </p:spPr>
      </p:pic>
      <p:sp>
        <p:nvSpPr>
          <p:cNvPr id="6724" name="Text Box 9"/>
          <p:cNvSpPr/>
          <p:nvPr/>
        </p:nvSpPr>
        <p:spPr>
          <a:xfrm>
            <a:off x="755640" y="1484280"/>
            <a:ext cx="7812000" cy="41101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395280" y="1125360"/>
            <a:ext cx="828036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250920" y="981000"/>
            <a:ext cx="856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395280" y="1052640"/>
            <a:ext cx="828036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111600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395280" y="1125360"/>
            <a:ext cx="849780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395280" y="1125360"/>
            <a:ext cx="849780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12985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ffffff"/>
              </a:solidFill>
              <a:latin typeface="Times New Roman"/>
            </a:endParaRPr>
          </a:p>
        </p:txBody>
      </p:sp>
      <p:grpSp>
        <p:nvGrpSpPr>
          <p:cNvPr id="6807" name="Group 2"/>
          <p:cNvGrpSpPr/>
          <p:nvPr/>
        </p:nvGrpSpPr>
        <p:grpSpPr>
          <a:xfrm>
            <a:off x="0" y="115920"/>
            <a:ext cx="9140760" cy="6548400"/>
            <a:chOff x="0" y="115920"/>
            <a:chExt cx="9140760" cy="6548400"/>
          </a:xfrm>
        </p:grpSpPr>
        <p:grpSp>
          <p:nvGrpSpPr>
            <p:cNvPr id="6808" name="Group 3"/>
            <p:cNvGrpSpPr/>
            <p:nvPr/>
          </p:nvGrpSpPr>
          <p:grpSpPr>
            <a:xfrm>
              <a:off x="0" y="115920"/>
              <a:ext cx="9140760" cy="6548400"/>
              <a:chOff x="0" y="115920"/>
              <a:chExt cx="9140760" cy="6548400"/>
            </a:xfrm>
          </p:grpSpPr>
          <p:sp>
            <p:nvSpPr>
              <p:cNvPr id="68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ffffff"/>
              </a:solidFill>
              <a:latin typeface="Times New Roman"/>
            </a:endParaRPr>
          </a:p>
        </p:txBody>
      </p:sp>
      <p:grpSp>
        <p:nvGrpSpPr>
          <p:cNvPr id="6816" name="Group 2"/>
          <p:cNvGrpSpPr/>
          <p:nvPr/>
        </p:nvGrpSpPr>
        <p:grpSpPr>
          <a:xfrm>
            <a:off x="0" y="115920"/>
            <a:ext cx="9140760" cy="6548400"/>
            <a:chOff x="0" y="115920"/>
            <a:chExt cx="9140760" cy="6548400"/>
          </a:xfrm>
        </p:grpSpPr>
        <p:grpSp>
          <p:nvGrpSpPr>
            <p:cNvPr id="6817" name="Group 3"/>
            <p:cNvGrpSpPr/>
            <p:nvPr/>
          </p:nvGrpSpPr>
          <p:grpSpPr>
            <a:xfrm>
              <a:off x="0" y="115920"/>
              <a:ext cx="9140760" cy="6548400"/>
              <a:chOff x="0" y="115920"/>
              <a:chExt cx="9140760" cy="6548400"/>
            </a:xfrm>
          </p:grpSpPr>
          <p:sp>
            <p:nvSpPr>
              <p:cNvPr id="68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17928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ffffff"/>
              </a:solidFill>
              <a:latin typeface="Times New Roman"/>
            </a:endParaRPr>
          </a:p>
        </p:txBody>
      </p:sp>
      <p:grpSp>
        <p:nvGrpSpPr>
          <p:cNvPr id="6825" name="Group 2"/>
          <p:cNvGrpSpPr/>
          <p:nvPr/>
        </p:nvGrpSpPr>
        <p:grpSpPr>
          <a:xfrm>
            <a:off x="0" y="115920"/>
            <a:ext cx="9140760" cy="6548400"/>
            <a:chOff x="0" y="115920"/>
            <a:chExt cx="9140760" cy="6548400"/>
          </a:xfrm>
        </p:grpSpPr>
        <p:grpSp>
          <p:nvGrpSpPr>
            <p:cNvPr id="6826" name="Group 3"/>
            <p:cNvGrpSpPr/>
            <p:nvPr/>
          </p:nvGrpSpPr>
          <p:grpSpPr>
            <a:xfrm>
              <a:off x="0" y="115920"/>
              <a:ext cx="9140760" cy="6548400"/>
              <a:chOff x="0" y="115920"/>
              <a:chExt cx="9140760" cy="6548400"/>
            </a:xfrm>
          </p:grpSpPr>
          <p:sp>
            <p:nvSpPr>
              <p:cNvPr id="68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17928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ffffff"/>
              </a:solidFill>
              <a:latin typeface="Times New Roman"/>
            </a:endParaRPr>
          </a:p>
        </p:txBody>
      </p:sp>
      <p:grpSp>
        <p:nvGrpSpPr>
          <p:cNvPr id="6843" name="Group 2"/>
          <p:cNvGrpSpPr/>
          <p:nvPr/>
        </p:nvGrpSpPr>
        <p:grpSpPr>
          <a:xfrm>
            <a:off x="0" y="115920"/>
            <a:ext cx="9140760" cy="6548400"/>
            <a:chOff x="0" y="115920"/>
            <a:chExt cx="9140760" cy="6548400"/>
          </a:xfrm>
        </p:grpSpPr>
        <p:grpSp>
          <p:nvGrpSpPr>
            <p:cNvPr id="6844" name="Group 3"/>
            <p:cNvGrpSpPr/>
            <p:nvPr/>
          </p:nvGrpSpPr>
          <p:grpSpPr>
            <a:xfrm>
              <a:off x="0" y="115920"/>
              <a:ext cx="9140760" cy="6548400"/>
              <a:chOff x="0" y="115920"/>
              <a:chExt cx="9140760" cy="6548400"/>
            </a:xfrm>
          </p:grpSpPr>
          <p:sp>
            <p:nvSpPr>
              <p:cNvPr id="68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0"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1"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ffffff"/>
              </a:solidFill>
              <a:latin typeface="Times New Roman"/>
            </a:endParaRPr>
          </a:p>
        </p:txBody>
      </p:sp>
      <p:grpSp>
        <p:nvGrpSpPr>
          <p:cNvPr id="6852" name="Group 2"/>
          <p:cNvGrpSpPr/>
          <p:nvPr/>
        </p:nvGrpSpPr>
        <p:grpSpPr>
          <a:xfrm>
            <a:off x="0" y="115920"/>
            <a:ext cx="9140760" cy="6548400"/>
            <a:chOff x="0" y="115920"/>
            <a:chExt cx="9140760" cy="6548400"/>
          </a:xfrm>
        </p:grpSpPr>
        <p:grpSp>
          <p:nvGrpSpPr>
            <p:cNvPr id="6853" name="Group 3"/>
            <p:cNvGrpSpPr/>
            <p:nvPr/>
          </p:nvGrpSpPr>
          <p:grpSpPr>
            <a:xfrm>
              <a:off x="0" y="115920"/>
              <a:ext cx="9140760" cy="6548400"/>
              <a:chOff x="0" y="115920"/>
              <a:chExt cx="9140760" cy="6548400"/>
            </a:xfrm>
          </p:grpSpPr>
          <p:sp>
            <p:nvSpPr>
              <p:cNvPr id="68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9"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0"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ffffff"/>
              </a:solidFill>
              <a:latin typeface="Times New Roman"/>
            </a:endParaRPr>
          </a:p>
        </p:txBody>
      </p:sp>
      <p:grpSp>
        <p:nvGrpSpPr>
          <p:cNvPr id="6861" name="Group 2"/>
          <p:cNvGrpSpPr/>
          <p:nvPr/>
        </p:nvGrpSpPr>
        <p:grpSpPr>
          <a:xfrm>
            <a:off x="0" y="115920"/>
            <a:ext cx="9140760" cy="6548400"/>
            <a:chOff x="0" y="115920"/>
            <a:chExt cx="9140760" cy="6548400"/>
          </a:xfrm>
        </p:grpSpPr>
        <p:grpSp>
          <p:nvGrpSpPr>
            <p:cNvPr id="6862" name="Group 3"/>
            <p:cNvGrpSpPr/>
            <p:nvPr/>
          </p:nvGrpSpPr>
          <p:grpSpPr>
            <a:xfrm>
              <a:off x="0" y="115920"/>
              <a:ext cx="9140760" cy="6548400"/>
              <a:chOff x="0" y="115920"/>
              <a:chExt cx="9140760" cy="6548400"/>
            </a:xfrm>
          </p:grpSpPr>
          <p:sp>
            <p:nvSpPr>
              <p:cNvPr id="68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8"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9"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ffffff"/>
              </a:solidFill>
              <a:latin typeface="Times New Roman"/>
            </a:endParaRPr>
          </a:p>
        </p:txBody>
      </p:sp>
      <p:grpSp>
        <p:nvGrpSpPr>
          <p:cNvPr id="6870" name="Group 2"/>
          <p:cNvGrpSpPr/>
          <p:nvPr/>
        </p:nvGrpSpPr>
        <p:grpSpPr>
          <a:xfrm>
            <a:off x="0" y="115920"/>
            <a:ext cx="9140760" cy="6548400"/>
            <a:chOff x="0" y="115920"/>
            <a:chExt cx="9140760" cy="6548400"/>
          </a:xfrm>
        </p:grpSpPr>
        <p:grpSp>
          <p:nvGrpSpPr>
            <p:cNvPr id="6871" name="Group 3"/>
            <p:cNvGrpSpPr/>
            <p:nvPr/>
          </p:nvGrpSpPr>
          <p:grpSpPr>
            <a:xfrm>
              <a:off x="0" y="115920"/>
              <a:ext cx="9140760" cy="6548400"/>
              <a:chOff x="0" y="115920"/>
              <a:chExt cx="9140760" cy="6548400"/>
            </a:xfrm>
          </p:grpSpPr>
          <p:sp>
            <p:nvSpPr>
              <p:cNvPr id="68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7"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8"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ffffff"/>
              </a:solidFill>
              <a:latin typeface="Times New Roman"/>
            </a:endParaRPr>
          </a:p>
        </p:txBody>
      </p:sp>
      <p:grpSp>
        <p:nvGrpSpPr>
          <p:cNvPr id="6879" name="Group 2"/>
          <p:cNvGrpSpPr/>
          <p:nvPr/>
        </p:nvGrpSpPr>
        <p:grpSpPr>
          <a:xfrm>
            <a:off x="0" y="115920"/>
            <a:ext cx="9140760" cy="6548400"/>
            <a:chOff x="0" y="115920"/>
            <a:chExt cx="9140760" cy="6548400"/>
          </a:xfrm>
        </p:grpSpPr>
        <p:grpSp>
          <p:nvGrpSpPr>
            <p:cNvPr id="6880" name="Group 3"/>
            <p:cNvGrpSpPr/>
            <p:nvPr/>
          </p:nvGrpSpPr>
          <p:grpSpPr>
            <a:xfrm>
              <a:off x="0" y="115920"/>
              <a:ext cx="9140760" cy="6548400"/>
              <a:chOff x="0" y="115920"/>
              <a:chExt cx="9140760" cy="6548400"/>
            </a:xfrm>
          </p:grpSpPr>
          <p:sp>
            <p:nvSpPr>
              <p:cNvPr id="68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6"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7"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ffffff"/>
              </a:solidFill>
              <a:latin typeface="Times New Roman"/>
            </a:endParaRPr>
          </a:p>
        </p:txBody>
      </p:sp>
      <p:grpSp>
        <p:nvGrpSpPr>
          <p:cNvPr id="6888" name="Group 2"/>
          <p:cNvGrpSpPr/>
          <p:nvPr/>
        </p:nvGrpSpPr>
        <p:grpSpPr>
          <a:xfrm>
            <a:off x="0" y="115920"/>
            <a:ext cx="9140760" cy="6548400"/>
            <a:chOff x="0" y="115920"/>
            <a:chExt cx="9140760" cy="6548400"/>
          </a:xfrm>
        </p:grpSpPr>
        <p:grpSp>
          <p:nvGrpSpPr>
            <p:cNvPr id="6889" name="Group 3"/>
            <p:cNvGrpSpPr/>
            <p:nvPr/>
          </p:nvGrpSpPr>
          <p:grpSpPr>
            <a:xfrm>
              <a:off x="0" y="115920"/>
              <a:ext cx="9140760" cy="6548400"/>
              <a:chOff x="0" y="115920"/>
              <a:chExt cx="9140760" cy="6548400"/>
            </a:xfrm>
          </p:grpSpPr>
          <p:sp>
            <p:nvSpPr>
              <p:cNvPr id="68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5"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6"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ffffff"/>
              </a:solidFill>
              <a:latin typeface="Times New Roman"/>
            </a:endParaRPr>
          </a:p>
        </p:txBody>
      </p:sp>
      <p:grpSp>
        <p:nvGrpSpPr>
          <p:cNvPr id="6897" name="Group 2"/>
          <p:cNvGrpSpPr/>
          <p:nvPr/>
        </p:nvGrpSpPr>
        <p:grpSpPr>
          <a:xfrm>
            <a:off x="0" y="115920"/>
            <a:ext cx="9140760" cy="6548400"/>
            <a:chOff x="0" y="115920"/>
            <a:chExt cx="9140760" cy="6548400"/>
          </a:xfrm>
        </p:grpSpPr>
        <p:grpSp>
          <p:nvGrpSpPr>
            <p:cNvPr id="6898" name="Group 3"/>
            <p:cNvGrpSpPr/>
            <p:nvPr/>
          </p:nvGrpSpPr>
          <p:grpSpPr>
            <a:xfrm>
              <a:off x="0" y="115920"/>
              <a:ext cx="9140760" cy="6548400"/>
              <a:chOff x="0" y="115920"/>
              <a:chExt cx="9140760" cy="6548400"/>
            </a:xfrm>
          </p:grpSpPr>
          <p:sp>
            <p:nvSpPr>
              <p:cNvPr id="68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4"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5" name="Text Box 1"/>
          <p:cNvSpPr/>
          <p:nvPr/>
        </p:nvSpPr>
        <p:spPr>
          <a:xfrm>
            <a:off x="250920" y="1052640"/>
            <a:ext cx="820872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ffffff"/>
              </a:solidFill>
              <a:latin typeface="Times New Roman"/>
            </a:endParaRPr>
          </a:p>
        </p:txBody>
      </p:sp>
      <p:grpSp>
        <p:nvGrpSpPr>
          <p:cNvPr id="6906" name="Group 2"/>
          <p:cNvGrpSpPr/>
          <p:nvPr/>
        </p:nvGrpSpPr>
        <p:grpSpPr>
          <a:xfrm>
            <a:off x="0" y="115920"/>
            <a:ext cx="9140760" cy="6548400"/>
            <a:chOff x="0" y="115920"/>
            <a:chExt cx="9140760" cy="6548400"/>
          </a:xfrm>
        </p:grpSpPr>
        <p:grpSp>
          <p:nvGrpSpPr>
            <p:cNvPr id="6907" name="Group 3"/>
            <p:cNvGrpSpPr/>
            <p:nvPr/>
          </p:nvGrpSpPr>
          <p:grpSpPr>
            <a:xfrm>
              <a:off x="0" y="115920"/>
              <a:ext cx="9140760" cy="6548400"/>
              <a:chOff x="0" y="115920"/>
              <a:chExt cx="9140760" cy="6548400"/>
            </a:xfrm>
          </p:grpSpPr>
          <p:sp>
            <p:nvSpPr>
              <p:cNvPr id="69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3"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4"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ffffff"/>
              </a:solidFill>
              <a:latin typeface="Times New Roman"/>
            </a:endParaRPr>
          </a:p>
        </p:txBody>
      </p:sp>
      <p:grpSp>
        <p:nvGrpSpPr>
          <p:cNvPr id="6915" name="Group 2"/>
          <p:cNvGrpSpPr/>
          <p:nvPr/>
        </p:nvGrpSpPr>
        <p:grpSpPr>
          <a:xfrm>
            <a:off x="0" y="115920"/>
            <a:ext cx="9140760" cy="6548400"/>
            <a:chOff x="0" y="115920"/>
            <a:chExt cx="9140760" cy="6548400"/>
          </a:xfrm>
        </p:grpSpPr>
        <p:grpSp>
          <p:nvGrpSpPr>
            <p:cNvPr id="6916" name="Group 3"/>
            <p:cNvGrpSpPr/>
            <p:nvPr/>
          </p:nvGrpSpPr>
          <p:grpSpPr>
            <a:xfrm>
              <a:off x="0" y="115920"/>
              <a:ext cx="9140760" cy="6548400"/>
              <a:chOff x="0" y="115920"/>
              <a:chExt cx="9140760" cy="6548400"/>
            </a:xfrm>
          </p:grpSpPr>
          <p:sp>
            <p:nvSpPr>
              <p:cNvPr id="69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2"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468360" y="907920"/>
            <a:ext cx="8424720" cy="48769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ffffff"/>
              </a:solidFill>
              <a:latin typeface="Times New Roman"/>
            </a:endParaRPr>
          </a:p>
        </p:txBody>
      </p:sp>
      <p:grpSp>
        <p:nvGrpSpPr>
          <p:cNvPr id="6924" name="Group 2"/>
          <p:cNvGrpSpPr/>
          <p:nvPr/>
        </p:nvGrpSpPr>
        <p:grpSpPr>
          <a:xfrm>
            <a:off x="0" y="115920"/>
            <a:ext cx="9140760" cy="6548400"/>
            <a:chOff x="0" y="115920"/>
            <a:chExt cx="9140760" cy="6548400"/>
          </a:xfrm>
        </p:grpSpPr>
        <p:grpSp>
          <p:nvGrpSpPr>
            <p:cNvPr id="6925" name="Group 3"/>
            <p:cNvGrpSpPr/>
            <p:nvPr/>
          </p:nvGrpSpPr>
          <p:grpSpPr>
            <a:xfrm>
              <a:off x="0" y="115920"/>
              <a:ext cx="9140760" cy="6548400"/>
              <a:chOff x="0" y="115920"/>
              <a:chExt cx="9140760" cy="6548400"/>
            </a:xfrm>
          </p:grpSpPr>
          <p:sp>
            <p:nvSpPr>
              <p:cNvPr id="69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1"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2"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ffffff"/>
              </a:solidFill>
              <a:latin typeface="Times New Roman"/>
            </a:endParaRPr>
          </a:p>
        </p:txBody>
      </p:sp>
      <p:grpSp>
        <p:nvGrpSpPr>
          <p:cNvPr id="6933" name="Group 2"/>
          <p:cNvGrpSpPr/>
          <p:nvPr/>
        </p:nvGrpSpPr>
        <p:grpSpPr>
          <a:xfrm>
            <a:off x="0" y="115920"/>
            <a:ext cx="9140760" cy="6548400"/>
            <a:chOff x="0" y="115920"/>
            <a:chExt cx="9140760" cy="6548400"/>
          </a:xfrm>
        </p:grpSpPr>
        <p:grpSp>
          <p:nvGrpSpPr>
            <p:cNvPr id="6934" name="Group 3"/>
            <p:cNvGrpSpPr/>
            <p:nvPr/>
          </p:nvGrpSpPr>
          <p:grpSpPr>
            <a:xfrm>
              <a:off x="0" y="115920"/>
              <a:ext cx="9140760" cy="6548400"/>
              <a:chOff x="0" y="115920"/>
              <a:chExt cx="9140760" cy="6548400"/>
            </a:xfrm>
          </p:grpSpPr>
          <p:sp>
            <p:nvSpPr>
              <p:cNvPr id="69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0"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1"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ffffff"/>
              </a:solidFill>
              <a:latin typeface="Times New Roman"/>
            </a:endParaRPr>
          </a:p>
        </p:txBody>
      </p:sp>
      <p:grpSp>
        <p:nvGrpSpPr>
          <p:cNvPr id="6942" name="Group 2"/>
          <p:cNvGrpSpPr/>
          <p:nvPr/>
        </p:nvGrpSpPr>
        <p:grpSpPr>
          <a:xfrm>
            <a:off x="0" y="115920"/>
            <a:ext cx="9140760" cy="6548400"/>
            <a:chOff x="0" y="115920"/>
            <a:chExt cx="9140760" cy="6548400"/>
          </a:xfrm>
        </p:grpSpPr>
        <p:grpSp>
          <p:nvGrpSpPr>
            <p:cNvPr id="6943" name="Group 3"/>
            <p:cNvGrpSpPr/>
            <p:nvPr/>
          </p:nvGrpSpPr>
          <p:grpSpPr>
            <a:xfrm>
              <a:off x="0" y="115920"/>
              <a:ext cx="9140760" cy="6548400"/>
              <a:chOff x="0" y="115920"/>
              <a:chExt cx="9140760" cy="6548400"/>
            </a:xfrm>
          </p:grpSpPr>
          <p:sp>
            <p:nvSpPr>
              <p:cNvPr id="69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9"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0"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ffffff"/>
              </a:solidFill>
              <a:latin typeface="Times New Roman"/>
            </a:endParaRPr>
          </a:p>
        </p:txBody>
      </p:sp>
      <p:grpSp>
        <p:nvGrpSpPr>
          <p:cNvPr id="6951" name="Group 2"/>
          <p:cNvGrpSpPr/>
          <p:nvPr/>
        </p:nvGrpSpPr>
        <p:grpSpPr>
          <a:xfrm>
            <a:off x="0" y="115920"/>
            <a:ext cx="9140760" cy="6548400"/>
            <a:chOff x="0" y="115920"/>
            <a:chExt cx="9140760" cy="6548400"/>
          </a:xfrm>
        </p:grpSpPr>
        <p:grpSp>
          <p:nvGrpSpPr>
            <p:cNvPr id="6952" name="Group 3"/>
            <p:cNvGrpSpPr/>
            <p:nvPr/>
          </p:nvGrpSpPr>
          <p:grpSpPr>
            <a:xfrm>
              <a:off x="0" y="115920"/>
              <a:ext cx="9140760" cy="6548400"/>
              <a:chOff x="0" y="115920"/>
              <a:chExt cx="9140760" cy="6548400"/>
            </a:xfrm>
          </p:grpSpPr>
          <p:sp>
            <p:nvSpPr>
              <p:cNvPr id="69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8"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ffffff"/>
              </a:solidFill>
              <a:latin typeface="Times New Roman"/>
            </a:endParaRPr>
          </a:p>
        </p:txBody>
      </p:sp>
      <p:grpSp>
        <p:nvGrpSpPr>
          <p:cNvPr id="6960" name="Group 2"/>
          <p:cNvGrpSpPr/>
          <p:nvPr/>
        </p:nvGrpSpPr>
        <p:grpSpPr>
          <a:xfrm>
            <a:off x="0" y="115920"/>
            <a:ext cx="9140760" cy="6548400"/>
            <a:chOff x="0" y="115920"/>
            <a:chExt cx="9140760" cy="6548400"/>
          </a:xfrm>
        </p:grpSpPr>
        <p:grpSp>
          <p:nvGrpSpPr>
            <p:cNvPr id="6961" name="Group 3"/>
            <p:cNvGrpSpPr/>
            <p:nvPr/>
          </p:nvGrpSpPr>
          <p:grpSpPr>
            <a:xfrm>
              <a:off x="0" y="115920"/>
              <a:ext cx="9140760" cy="6548400"/>
              <a:chOff x="0" y="115920"/>
              <a:chExt cx="9140760" cy="6548400"/>
            </a:xfrm>
          </p:grpSpPr>
          <p:sp>
            <p:nvSpPr>
              <p:cNvPr id="69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7"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ffffff"/>
              </a:solidFill>
              <a:latin typeface="Times New Roman"/>
            </a:endParaRPr>
          </a:p>
        </p:txBody>
      </p:sp>
      <p:grpSp>
        <p:nvGrpSpPr>
          <p:cNvPr id="6969" name="Group 2"/>
          <p:cNvGrpSpPr/>
          <p:nvPr/>
        </p:nvGrpSpPr>
        <p:grpSpPr>
          <a:xfrm>
            <a:off x="0" y="115920"/>
            <a:ext cx="9140760" cy="6548400"/>
            <a:chOff x="0" y="115920"/>
            <a:chExt cx="9140760" cy="6548400"/>
          </a:xfrm>
        </p:grpSpPr>
        <p:grpSp>
          <p:nvGrpSpPr>
            <p:cNvPr id="6970" name="Group 3"/>
            <p:cNvGrpSpPr/>
            <p:nvPr/>
          </p:nvGrpSpPr>
          <p:grpSpPr>
            <a:xfrm>
              <a:off x="0" y="115920"/>
              <a:ext cx="9140760" cy="6548400"/>
              <a:chOff x="0" y="115920"/>
              <a:chExt cx="9140760" cy="6548400"/>
            </a:xfrm>
          </p:grpSpPr>
          <p:sp>
            <p:nvSpPr>
              <p:cNvPr id="69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6"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7"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ffffff"/>
              </a:solidFill>
              <a:latin typeface="Times New Roman"/>
            </a:endParaRPr>
          </a:p>
        </p:txBody>
      </p:sp>
      <p:grpSp>
        <p:nvGrpSpPr>
          <p:cNvPr id="6978" name="Group 2"/>
          <p:cNvGrpSpPr/>
          <p:nvPr/>
        </p:nvGrpSpPr>
        <p:grpSpPr>
          <a:xfrm>
            <a:off x="0" y="115920"/>
            <a:ext cx="9140760" cy="6548400"/>
            <a:chOff x="0" y="115920"/>
            <a:chExt cx="9140760" cy="6548400"/>
          </a:xfrm>
        </p:grpSpPr>
        <p:grpSp>
          <p:nvGrpSpPr>
            <p:cNvPr id="6979" name="Group 3"/>
            <p:cNvGrpSpPr/>
            <p:nvPr/>
          </p:nvGrpSpPr>
          <p:grpSpPr>
            <a:xfrm>
              <a:off x="0" y="115920"/>
              <a:ext cx="9140760" cy="6548400"/>
              <a:chOff x="0" y="115920"/>
              <a:chExt cx="9140760" cy="6548400"/>
            </a:xfrm>
          </p:grpSpPr>
          <p:sp>
            <p:nvSpPr>
              <p:cNvPr id="69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5"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6"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ffffff"/>
              </a:solidFill>
              <a:latin typeface="Times New Roman"/>
            </a:endParaRPr>
          </a:p>
        </p:txBody>
      </p:sp>
      <p:grpSp>
        <p:nvGrpSpPr>
          <p:cNvPr id="6987" name="Group 2"/>
          <p:cNvGrpSpPr/>
          <p:nvPr/>
        </p:nvGrpSpPr>
        <p:grpSpPr>
          <a:xfrm>
            <a:off x="0" y="115920"/>
            <a:ext cx="9140760" cy="6548400"/>
            <a:chOff x="0" y="115920"/>
            <a:chExt cx="9140760" cy="6548400"/>
          </a:xfrm>
        </p:grpSpPr>
        <p:grpSp>
          <p:nvGrpSpPr>
            <p:cNvPr id="6988" name="Group 3"/>
            <p:cNvGrpSpPr/>
            <p:nvPr/>
          </p:nvGrpSpPr>
          <p:grpSpPr>
            <a:xfrm>
              <a:off x="0" y="115920"/>
              <a:ext cx="9140760" cy="6548400"/>
              <a:chOff x="0" y="115920"/>
              <a:chExt cx="9140760" cy="6548400"/>
            </a:xfrm>
          </p:grpSpPr>
          <p:sp>
            <p:nvSpPr>
              <p:cNvPr id="69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4"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ffffff"/>
              </a:solidFill>
              <a:latin typeface="Times New Roman"/>
            </a:endParaRPr>
          </a:p>
        </p:txBody>
      </p:sp>
      <p:grpSp>
        <p:nvGrpSpPr>
          <p:cNvPr id="6996" name="Group 2"/>
          <p:cNvGrpSpPr/>
          <p:nvPr/>
        </p:nvGrpSpPr>
        <p:grpSpPr>
          <a:xfrm>
            <a:off x="0" y="115920"/>
            <a:ext cx="9140760" cy="6548400"/>
            <a:chOff x="0" y="115920"/>
            <a:chExt cx="9140760" cy="6548400"/>
          </a:xfrm>
        </p:grpSpPr>
        <p:grpSp>
          <p:nvGrpSpPr>
            <p:cNvPr id="6997" name="Group 3"/>
            <p:cNvGrpSpPr/>
            <p:nvPr/>
          </p:nvGrpSpPr>
          <p:grpSpPr>
            <a:xfrm>
              <a:off x="0" y="115920"/>
              <a:ext cx="9140760" cy="6548400"/>
              <a:chOff x="0" y="115920"/>
              <a:chExt cx="9140760" cy="6548400"/>
            </a:xfrm>
          </p:grpSpPr>
          <p:sp>
            <p:nvSpPr>
              <p:cNvPr id="69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3"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4"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ffffff"/>
              </a:solidFill>
              <a:latin typeface="Times New Roman"/>
            </a:endParaRPr>
          </a:p>
        </p:txBody>
      </p:sp>
      <p:grpSp>
        <p:nvGrpSpPr>
          <p:cNvPr id="7005" name="Group 2"/>
          <p:cNvGrpSpPr/>
          <p:nvPr/>
        </p:nvGrpSpPr>
        <p:grpSpPr>
          <a:xfrm>
            <a:off x="0" y="115920"/>
            <a:ext cx="9140760" cy="6548400"/>
            <a:chOff x="0" y="115920"/>
            <a:chExt cx="9140760" cy="6548400"/>
          </a:xfrm>
        </p:grpSpPr>
        <p:grpSp>
          <p:nvGrpSpPr>
            <p:cNvPr id="7006" name="Group 3"/>
            <p:cNvGrpSpPr/>
            <p:nvPr/>
          </p:nvGrpSpPr>
          <p:grpSpPr>
            <a:xfrm>
              <a:off x="0" y="115920"/>
              <a:ext cx="9140760" cy="6548400"/>
              <a:chOff x="0" y="115920"/>
              <a:chExt cx="9140760" cy="6548400"/>
            </a:xfrm>
          </p:grpSpPr>
          <p:sp>
            <p:nvSpPr>
              <p:cNvPr id="70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2"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539640" y="1392120"/>
            <a:ext cx="842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3"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ffffff"/>
              </a:solidFill>
              <a:latin typeface="Times New Roman"/>
            </a:endParaRPr>
          </a:p>
        </p:txBody>
      </p:sp>
      <p:grpSp>
        <p:nvGrpSpPr>
          <p:cNvPr id="7014" name="Group 2"/>
          <p:cNvGrpSpPr/>
          <p:nvPr/>
        </p:nvGrpSpPr>
        <p:grpSpPr>
          <a:xfrm>
            <a:off x="0" y="115920"/>
            <a:ext cx="9140760" cy="6548400"/>
            <a:chOff x="0" y="115920"/>
            <a:chExt cx="9140760" cy="6548400"/>
          </a:xfrm>
        </p:grpSpPr>
        <p:grpSp>
          <p:nvGrpSpPr>
            <p:cNvPr id="7015" name="Group 3"/>
            <p:cNvGrpSpPr/>
            <p:nvPr/>
          </p:nvGrpSpPr>
          <p:grpSpPr>
            <a:xfrm>
              <a:off x="0" y="115920"/>
              <a:ext cx="9140760" cy="6548400"/>
              <a:chOff x="0" y="115920"/>
              <a:chExt cx="9140760" cy="6548400"/>
            </a:xfrm>
          </p:grpSpPr>
          <p:sp>
            <p:nvSpPr>
              <p:cNvPr id="70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1"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2"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ffffff"/>
              </a:solidFill>
              <a:latin typeface="Times New Roman"/>
            </a:endParaRPr>
          </a:p>
        </p:txBody>
      </p:sp>
      <p:grpSp>
        <p:nvGrpSpPr>
          <p:cNvPr id="7023" name="Group 2"/>
          <p:cNvGrpSpPr/>
          <p:nvPr/>
        </p:nvGrpSpPr>
        <p:grpSpPr>
          <a:xfrm>
            <a:off x="0" y="115920"/>
            <a:ext cx="9140760" cy="6548400"/>
            <a:chOff x="0" y="115920"/>
            <a:chExt cx="9140760" cy="6548400"/>
          </a:xfrm>
        </p:grpSpPr>
        <p:grpSp>
          <p:nvGrpSpPr>
            <p:cNvPr id="7024" name="Group 3"/>
            <p:cNvGrpSpPr/>
            <p:nvPr/>
          </p:nvGrpSpPr>
          <p:grpSpPr>
            <a:xfrm>
              <a:off x="0" y="115920"/>
              <a:ext cx="9140760" cy="6548400"/>
              <a:chOff x="0" y="115920"/>
              <a:chExt cx="9140760" cy="6548400"/>
            </a:xfrm>
          </p:grpSpPr>
          <p:sp>
            <p:nvSpPr>
              <p:cNvPr id="70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0"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1"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ffffff"/>
              </a:solidFill>
              <a:latin typeface="Times New Roman"/>
            </a:endParaRPr>
          </a:p>
        </p:txBody>
      </p:sp>
      <p:grpSp>
        <p:nvGrpSpPr>
          <p:cNvPr id="7032" name="Group 2"/>
          <p:cNvGrpSpPr/>
          <p:nvPr/>
        </p:nvGrpSpPr>
        <p:grpSpPr>
          <a:xfrm>
            <a:off x="0" y="115920"/>
            <a:ext cx="9140760" cy="6548400"/>
            <a:chOff x="0" y="115920"/>
            <a:chExt cx="9140760" cy="6548400"/>
          </a:xfrm>
        </p:grpSpPr>
        <p:grpSp>
          <p:nvGrpSpPr>
            <p:cNvPr id="7033" name="Group 3"/>
            <p:cNvGrpSpPr/>
            <p:nvPr/>
          </p:nvGrpSpPr>
          <p:grpSpPr>
            <a:xfrm>
              <a:off x="0" y="115920"/>
              <a:ext cx="9140760" cy="6548400"/>
              <a:chOff x="0" y="115920"/>
              <a:chExt cx="9140760" cy="6548400"/>
            </a:xfrm>
          </p:grpSpPr>
          <p:sp>
            <p:nvSpPr>
              <p:cNvPr id="70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9"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0" name="Text Box 1"/>
          <p:cNvSpPr/>
          <p:nvPr/>
        </p:nvSpPr>
        <p:spPr>
          <a:xfrm>
            <a:off x="250920" y="836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ffffff"/>
              </a:solidFill>
              <a:latin typeface="Times New Roman"/>
            </a:endParaRPr>
          </a:p>
        </p:txBody>
      </p:sp>
      <p:grpSp>
        <p:nvGrpSpPr>
          <p:cNvPr id="7041" name="Group 2"/>
          <p:cNvGrpSpPr/>
          <p:nvPr/>
        </p:nvGrpSpPr>
        <p:grpSpPr>
          <a:xfrm>
            <a:off x="0" y="115920"/>
            <a:ext cx="9140760" cy="6548400"/>
            <a:chOff x="0" y="115920"/>
            <a:chExt cx="9140760" cy="6548400"/>
          </a:xfrm>
        </p:grpSpPr>
        <p:grpSp>
          <p:nvGrpSpPr>
            <p:cNvPr id="7042" name="Group 3"/>
            <p:cNvGrpSpPr/>
            <p:nvPr/>
          </p:nvGrpSpPr>
          <p:grpSpPr>
            <a:xfrm>
              <a:off x="0" y="115920"/>
              <a:ext cx="9140760" cy="6548400"/>
              <a:chOff x="0" y="115920"/>
              <a:chExt cx="9140760" cy="6548400"/>
            </a:xfrm>
          </p:grpSpPr>
          <p:sp>
            <p:nvSpPr>
              <p:cNvPr id="70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48"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9" name="Text Box 1"/>
          <p:cNvSpPr/>
          <p:nvPr/>
        </p:nvSpPr>
        <p:spPr>
          <a:xfrm>
            <a:off x="250920" y="1052640"/>
            <a:ext cx="889308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ffffff"/>
              </a:solidFill>
              <a:latin typeface="Times New Roman"/>
            </a:endParaRPr>
          </a:p>
        </p:txBody>
      </p:sp>
      <p:grpSp>
        <p:nvGrpSpPr>
          <p:cNvPr id="7050" name="Group 2"/>
          <p:cNvGrpSpPr/>
          <p:nvPr/>
        </p:nvGrpSpPr>
        <p:grpSpPr>
          <a:xfrm>
            <a:off x="0" y="115920"/>
            <a:ext cx="9140760" cy="6548400"/>
            <a:chOff x="0" y="115920"/>
            <a:chExt cx="9140760" cy="6548400"/>
          </a:xfrm>
        </p:grpSpPr>
        <p:grpSp>
          <p:nvGrpSpPr>
            <p:cNvPr id="7051" name="Group 3"/>
            <p:cNvGrpSpPr/>
            <p:nvPr/>
          </p:nvGrpSpPr>
          <p:grpSpPr>
            <a:xfrm>
              <a:off x="0" y="115920"/>
              <a:ext cx="9140760" cy="6548400"/>
              <a:chOff x="0" y="115920"/>
              <a:chExt cx="9140760" cy="6548400"/>
            </a:xfrm>
          </p:grpSpPr>
          <p:sp>
            <p:nvSpPr>
              <p:cNvPr id="70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57"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8"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ffffff"/>
              </a:solidFill>
              <a:latin typeface="Times New Roman"/>
            </a:endParaRPr>
          </a:p>
        </p:txBody>
      </p:sp>
      <p:grpSp>
        <p:nvGrpSpPr>
          <p:cNvPr id="7059" name="Group 2"/>
          <p:cNvGrpSpPr/>
          <p:nvPr/>
        </p:nvGrpSpPr>
        <p:grpSpPr>
          <a:xfrm>
            <a:off x="0" y="115920"/>
            <a:ext cx="9140760" cy="6548400"/>
            <a:chOff x="0" y="115920"/>
            <a:chExt cx="9140760" cy="6548400"/>
          </a:xfrm>
        </p:grpSpPr>
        <p:grpSp>
          <p:nvGrpSpPr>
            <p:cNvPr id="7060" name="Group 3"/>
            <p:cNvGrpSpPr/>
            <p:nvPr/>
          </p:nvGrpSpPr>
          <p:grpSpPr>
            <a:xfrm>
              <a:off x="0" y="115920"/>
              <a:ext cx="9140760" cy="6548400"/>
              <a:chOff x="0" y="115920"/>
              <a:chExt cx="9140760" cy="6548400"/>
            </a:xfrm>
          </p:grpSpPr>
          <p:sp>
            <p:nvSpPr>
              <p:cNvPr id="70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66"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7"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068" name="Picture 2" descr=""/>
          <p:cNvPicPr/>
          <p:nvPr/>
        </p:nvPicPr>
        <p:blipFill>
          <a:blip r:embed="rId1"/>
          <a:stretch/>
        </p:blipFill>
        <p:spPr>
          <a:xfrm>
            <a:off x="0" y="0"/>
            <a:ext cx="9144000" cy="1368360"/>
          </a:xfrm>
          <a:prstGeom prst="rect">
            <a:avLst/>
          </a:prstGeom>
          <a:ln w="0">
            <a:noFill/>
          </a:ln>
        </p:spPr>
      </p:pic>
      <p:pic>
        <p:nvPicPr>
          <p:cNvPr id="7069" name="Picture 3" descr=""/>
          <p:cNvPicPr/>
          <p:nvPr/>
        </p:nvPicPr>
        <p:blipFill>
          <a:blip r:embed="rId2"/>
          <a:stretch/>
        </p:blipFill>
        <p:spPr>
          <a:xfrm>
            <a:off x="1258920" y="2060640"/>
            <a:ext cx="1297080" cy="1528560"/>
          </a:xfrm>
          <a:prstGeom prst="rect">
            <a:avLst/>
          </a:prstGeom>
          <a:ln w="0">
            <a:noFill/>
          </a:ln>
        </p:spPr>
      </p:pic>
      <p:pic>
        <p:nvPicPr>
          <p:cNvPr id="7070" name="Picture 4" descr=""/>
          <p:cNvPicPr/>
          <p:nvPr/>
        </p:nvPicPr>
        <p:blipFill>
          <a:blip r:embed="rId3"/>
          <a:stretch/>
        </p:blipFill>
        <p:spPr>
          <a:xfrm>
            <a:off x="6948360" y="1989000"/>
            <a:ext cx="1444680" cy="1573200"/>
          </a:xfrm>
          <a:prstGeom prst="rect">
            <a:avLst/>
          </a:prstGeom>
          <a:ln w="0">
            <a:noFill/>
          </a:ln>
        </p:spPr>
      </p:pic>
      <p:sp>
        <p:nvSpPr>
          <p:cNvPr id="7071"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7072"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539640" y="1392120"/>
            <a:ext cx="842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395280" y="148428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3:05Z</dcterms:modified>
  <cp:revision>1</cp:revision>
  <dc:subject/>
  <dc:title/>
</cp:coreProperties>
</file>